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7102475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599B-1AD1-411B-A011-6B995C6E3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2963-A650-4BCA-BEB6-077AF3AD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380D-7D92-4BE8-98DE-D757586C8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C18E-7B1A-420D-962A-93989A2E4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A03B-ED00-430C-A3D7-B219C5FCB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DB97-FB4B-4C08-9B2E-7CE6DC87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CDFB-E6F7-4D73-A57E-9F53FBE2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B78A-C8D6-4EED-9E07-E508BBE0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97E1-420A-4435-A23B-8E52550B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EBA8-4F45-4641-9074-2249FDC4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4B0F-5243-44A5-A760-D9CABCDE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070B-77A9-478C-9F89-8D4832BD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4476-1815-4E59-B858-8D591490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B3F7-172F-48DC-AABC-ADE92872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D8C8-B555-43B1-8049-AD8378FF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15FF-F43C-4013-B8E3-31231F715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1036-B810-435A-88CA-045469D61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4CCE-F39F-45BB-A258-2831DE19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30A9-8580-47CE-B103-922DF4E8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B3E8-8341-482B-AD14-E1EFA24C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391E-45D1-480D-8E89-DC53AAAA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0A6F-6355-4800-8733-AED238AB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B30A-BB06-4C63-97B9-E8925137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663C-B67F-4D61-9243-E0DAEAF1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8D45-20CA-445E-ABB6-42868A9388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F46E-DF5D-4F2D-A6C1-51A23D0BAC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114264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Σωματική ανάπτυξη</a:t>
            </a:r>
            <a:br>
              <a:rPr sz="6600"/>
            </a:b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των παιδιών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1371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Σωματική ανάπτυξη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2520" y="3213000"/>
            <a:ext cx="808092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Η διαδικασία της αύξησης των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συνολικώ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διαστάσεω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του σώματος, της μάζας κα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των διαστάσεων των κυριότερων μελών το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Φυσική ανάπτυξη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00600" y="3021120"/>
            <a:ext cx="7008120" cy="24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Η διαδικασία των αλλαγών στη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σχέσ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των βασικών φυσικών ικανοτήτων μ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τις συνολικές διαστάσεις του σώματο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και κυρίως με τη μάζα του σώματο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Βασικές φυσικές ικανότητες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47920" y="2742840"/>
            <a:ext cx="624816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Ζωτική χωρητικότητ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Μέγιστη πρόσληψη οξυγόνο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Μέγιστη δύναμ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990360"/>
            <a:ext cx="67057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Αρμονική 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σωματική ανάπτυξη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74880" y="2674800"/>
            <a:ext cx="7331040" cy="27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Είναι η διαδικασία αλλαγής, μέσα σ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συγκεκριμένα όρια, των μορφών κα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των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αναλογιώ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του σώματος και των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κυριοτέρων μελών, στην περίοδο που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συντελείται η σωματική ανάπτυξ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96840" y="1454040"/>
            <a:ext cx="3568680" cy="227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Arial"/>
              </a:rPr>
              <a:t>Νόμος Wolanski</a:t>
            </a:r>
            <a:br>
              <a:rPr sz="4400"/>
            </a:br>
            <a:r>
              <a:rPr b="0" lang="el-GR" sz="2800" spc="-1" strike="noStrike">
                <a:solidFill>
                  <a:srgbClr val="ffff00"/>
                </a:solidFill>
                <a:latin typeface="Arial"/>
              </a:rPr>
              <a:t>(Θεωρητικές κατηγορίες ανάπτυξης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08520" y="3892680"/>
            <a:ext cx="3568680" cy="2273040"/>
          </a:xfrm>
          <a:prstGeom prst="rect">
            <a:avLst/>
          </a:prstGeom>
          <a:solidFill>
            <a:srgbClr val="00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143000" y="1676160"/>
            <a:ext cx="1600200" cy="19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219320" y="2133720"/>
            <a:ext cx="1523880" cy="1371600"/>
          </a:xfrm>
          <a:prstGeom prst="line">
            <a:avLst/>
          </a:prstGeom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143000" y="2514240"/>
            <a:ext cx="1600200" cy="106668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167652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2133720"/>
            <a:ext cx="1219320" cy="0"/>
          </a:xfrm>
          <a:prstGeom prst="line">
            <a:avLst/>
          </a:prstGeom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2514600"/>
            <a:ext cx="1219320" cy="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73160" y="3511440"/>
            <a:ext cx="139680" cy="13968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13200" y="3898800"/>
            <a:ext cx="3556080" cy="2260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952880" y="4876560"/>
            <a:ext cx="685800" cy="114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029200" y="4572000"/>
            <a:ext cx="1371600" cy="1371600"/>
          </a:xfrm>
          <a:prstGeom prst="line">
            <a:avLst/>
          </a:prstGeom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952880" y="4191120"/>
            <a:ext cx="2362320" cy="182880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00800" y="4572000"/>
            <a:ext cx="1600200" cy="0"/>
          </a:xfrm>
          <a:prstGeom prst="line">
            <a:avLst/>
          </a:prstGeom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15200" y="4191120"/>
            <a:ext cx="762120" cy="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83040" y="5950080"/>
            <a:ext cx="139680" cy="13968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6840" y="3892680"/>
            <a:ext cx="3568680" cy="227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143000" y="4114800"/>
            <a:ext cx="1600200" cy="190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219320" y="4114800"/>
            <a:ext cx="1828800" cy="1828800"/>
          </a:xfrm>
          <a:prstGeom prst="line">
            <a:avLst/>
          </a:prstGeom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143000" y="4114800"/>
            <a:ext cx="2286000" cy="190512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43200" y="411480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73160" y="5950080"/>
            <a:ext cx="139680" cy="13968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13200" y="1460520"/>
            <a:ext cx="3556080" cy="2260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952880" y="1676160"/>
            <a:ext cx="2057400" cy="19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029200" y="2133720"/>
            <a:ext cx="1523880" cy="1371600"/>
          </a:xfrm>
          <a:prstGeom prst="line">
            <a:avLst/>
          </a:prstGeom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952880" y="2514240"/>
            <a:ext cx="1143000" cy="106668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10280" y="167652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53080" y="2133720"/>
            <a:ext cx="1067040" cy="0"/>
          </a:xfrm>
          <a:prstGeom prst="line">
            <a:avLst/>
          </a:prstGeom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2514600"/>
            <a:ext cx="1524240" cy="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83040" y="3511440"/>
            <a:ext cx="139680" cy="13968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4876920"/>
            <a:ext cx="2362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6172200"/>
            <a:ext cx="3581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990720" y="3886200"/>
            <a:ext cx="0" cy="228600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990720" y="1447920"/>
            <a:ext cx="0" cy="228600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800600" y="1447920"/>
            <a:ext cx="0" cy="228600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800600" y="3886200"/>
            <a:ext cx="0" cy="228600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6172200"/>
            <a:ext cx="3581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3733920"/>
            <a:ext cx="3581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3733920"/>
            <a:ext cx="3581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27160" y="15843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37040" y="15843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03480" y="4022640"/>
            <a:ext cx="352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36320" y="4022640"/>
            <a:ext cx="38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-397080" y="3412440"/>
            <a:ext cx="2379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Όρια ανάπτυξ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13160" y="5843520"/>
            <a:ext cx="81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Ηλικί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51640" y="5843520"/>
            <a:ext cx="81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Ηλικί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299360" y="3328920"/>
            <a:ext cx="81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Ηλικί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41760" y="3328920"/>
            <a:ext cx="81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Ηλικί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00"/>
                </a:solidFill>
                <a:latin typeface="Arial"/>
              </a:rPr>
              <a:t>Ερμηνεία του νόμου του Tanner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"/>
              </a:rPr>
              <a:t>Α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Το τέμπο της ανάπτυξης είναι διαφορετικό από άτομο σε άτομο και ολοκληρώνεται η ανάπτυξη στην ίδια ηλικί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"/>
              </a:rPr>
              <a:t>Β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Το τέμπο της ανάπτυξης είναι το ίδιο αλλά η ανάπτυξη ολοκληρώνεται σε διαφορετική ηλικί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"/>
              </a:rPr>
              <a:t>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Το τέμπο της ανάπτυξης είναι διαφορετικό και η ανάπτυξη ολοκληρώνεται σε διαφορετική ηλικί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Όσο πιο γρήγορο είναι το τέμπο της ανάπτυξης τόσο αυτή ολοκληρώνεται σε μικρότερη ηλικί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447920"/>
            <a:ext cx="7543800" cy="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Arial"/>
              </a:rPr>
              <a:t>Ανάπτυξη οργάνων σε σχέση με το ύψος και το βάρος </a:t>
            </a:r>
            <a:r>
              <a:rPr b="0" lang="el-GR" sz="2400" spc="-1" strike="noStrike">
                <a:solidFill>
                  <a:srgbClr val="ffff00"/>
                </a:solidFill>
                <a:latin typeface="Arial"/>
              </a:rPr>
              <a:t>(Tanner 1967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914400" y="1676520"/>
          <a:ext cx="7478640" cy="484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76520"/>
                    <a:ext cx="7478640" cy="48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1676520" y="3657600"/>
            <a:ext cx="57150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78720" y="1622520"/>
            <a:ext cx="462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%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Arial"/>
              </a:rPr>
              <a:t>Εναλλαγή στην κατά μήκος ανάπτυξη </a:t>
            </a:r>
            <a:br>
              <a:rPr sz="2800"/>
            </a:br>
            <a:r>
              <a:rPr b="0" lang="el-GR" sz="2800" spc="-1" strike="noStrike">
                <a:solidFill>
                  <a:srgbClr val="ffff00"/>
                </a:solidFill>
                <a:latin typeface="Arial"/>
              </a:rPr>
              <a:t>των κυριοτέρων μελών του σώματος </a:t>
            </a:r>
            <a:br>
              <a:rPr sz="2800"/>
            </a:br>
            <a:r>
              <a:rPr b="0" lang="el-GR" sz="2000" spc="-1" strike="noStrike">
                <a:solidFill>
                  <a:srgbClr val="ffff00"/>
                </a:solidFill>
                <a:latin typeface="Arial"/>
              </a:rPr>
              <a:t>(εξαμηνιαία αύξηση σε mm) / Godi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422360" y="1825560"/>
          <a:ext cx="6286680" cy="395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2360" y="1825560"/>
                    <a:ext cx="628668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86200" y="838080"/>
            <a:ext cx="4495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Arial"/>
              </a:rPr>
              <a:t>Σχηματική παράσταση </a:t>
            </a:r>
            <a:br>
              <a:rPr sz="3200"/>
            </a:br>
            <a:r>
              <a:rPr b="0" lang="el-GR" sz="3200" spc="-1" strike="noStrike">
                <a:solidFill>
                  <a:srgbClr val="ffff00"/>
                </a:solidFill>
                <a:latin typeface="Arial"/>
              </a:rPr>
              <a:t>του νόμου του Godi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5760" y="1104840"/>
            <a:ext cx="383040" cy="48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5943600"/>
            <a:ext cx="34290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1143000"/>
            <a:ext cx="91440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2743200"/>
            <a:ext cx="60948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09680" y="3962520"/>
            <a:ext cx="914400" cy="99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4952880"/>
            <a:ext cx="60948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9680" y="5486400"/>
            <a:ext cx="91440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38480" y="2514600"/>
            <a:ext cx="9144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91120" y="3429000"/>
            <a:ext cx="609480" cy="838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38480" y="4267080"/>
            <a:ext cx="914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91120" y="4952880"/>
            <a:ext cx="60948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5486400"/>
            <a:ext cx="91440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68960" y="1930320"/>
            <a:ext cx="253800" cy="254160"/>
          </a:xfrm>
          <a:prstGeom prst="ellips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981080" y="990360"/>
            <a:ext cx="228600" cy="228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95680" y="2209680"/>
            <a:ext cx="0" cy="152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2286000"/>
            <a:ext cx="152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24640" y="2664000"/>
            <a:ext cx="2274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Περίοδος ανάπτυξη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σε πλάτο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24640" y="3502080"/>
            <a:ext cx="2274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Περίοδος ανάπτυξη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σε μήκο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028840" y="380988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5028840" y="297180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778040" y="1168560"/>
            <a:ext cx="253800" cy="253800"/>
          </a:xfrm>
          <a:prstGeom prst="ellips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16200000">
            <a:off x="2876760" y="3227400"/>
            <a:ext cx="885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Ηλικί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Διαφορές στις αναλογίες του σώματος του νεογέννητου και του ενήλικα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1" name="bogdanowicz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4030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Φυσική ανάπτυξη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~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οντογένεση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7680" y="2773440"/>
            <a:ext cx="816912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ff33"/>
                </a:solidFill>
                <a:uFillTx/>
                <a:latin typeface="Arial"/>
              </a:rPr>
              <a:t>Οντογένεση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Ατομική και μεμονωμένη ανάπτυξη των οργανισμώ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560" y="4205160"/>
            <a:ext cx="58665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Ατομική πορεία ανάπτυξης από την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αρχή μέχρι το τέλος της ζωή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Δοκιμασία των Φιλιππίνω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3" name="filipines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800100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Παιδαγωγική αξία της γνώσης των νόμων της σωματικής ανάπτυξης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Προσαρμογή των προγραμμάτων στις πραγματικές δυνατότητες των παιδιώ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Ερμηνεία των αλλαγών στη συμπεριφορά και την απόδοσ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Γενικές παρατηρήσεις για το φαινόμενο της ανάπτυξη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Η διαδικασία της ανάπτυξης διαρκεί περίπου το 1/4 - 1/3 της ζωή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Το φαινόμενο της ανάπτυξης είναι ενιαί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Από τη γέννηση μέχρι την ολοκλήρωση της ανάπτυξης η μυϊκή μάζα αυξάνεται 37 φορές και το βάρος των οστών 27 φορές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(Przeweda 198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Παράγοντες που επηρεάζουν τη σωματική ανάπτυξη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Βελτίωση της διατροφή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Αύξηση της κατανάλωσης ζωικών πρωτεϊνώ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Απαλλαγή από χειρωνακτική εργασί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καλυτέρευση των συνθηκών υγιεινής και καθαριότητα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Αξιοποίηση του ελεύθερου χρόνο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Άνοδος του μορφωτικού επιπέδο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Πρώιμη ενασχόληση με τον αθλητισμ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Heteroz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Επιτάχυνση της σωματικής ανάπτυξη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Το ύψος των σημερινών 20χρονων ξεπερνά κατά 10-15 cm το ύψος των συνομηλίκων τους των προηγούμενων γενεώ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Το βάρος των σημερινών 20χρονων ξεπερνά κατά 5-10 kg το βάρος των συνομηλίκων τους των προηγούμενων γενεώ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Η εφηβεία φτάνει πιο γρήγορ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Η ψυχολογική και βιολογική ωρίμανση εκδηλώνεται σε μικρότερες ηλικίε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Times New Roman"/>
              </a:rPr>
              <a:t>Παιδαγωγική αξία της γνώσης των νόμων της σωματικής ανάπτυξης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Γνωρίζει τι ωφελεί και τι βλάπτει την ανάπτυξη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ροσαρμόζει κατάλληλα τα προγράμματα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Ερμηνεύει σωστά τη συμπεριφορά και την απόδοση των παιδιώ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Αποφεύγει σοβαρά παιδαγωγικά σφάλματα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225440" y="2521080"/>
            <a:ext cx="6693120" cy="1130040"/>
          </a:xfrm>
          <a:custGeom>
            <a:avLst/>
            <a:gdLst>
              <a:gd name="textAreaLeft" fmla="*/ 247680 w 6693120"/>
              <a:gd name="textAreaRight" fmla="*/ 6445440 w 6693120"/>
              <a:gd name="textAreaTop" fmla="*/ 41760 h 1130040"/>
              <a:gd name="textAreaBottom" fmla="*/ 902520 h 11300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4850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Εξέταση και αξιολόγηση της σωματικής ανάπτυξης σημαίνει φροντίδα για υψηλότερο επίπεδο υγείας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43160" y="2575080"/>
            <a:ext cx="646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Η σωματική ανάπτυξη είναι ποσοτική έκφρασ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της δομής και της λειτουργίας των οργάνω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91320" y="3794040"/>
            <a:ext cx="65674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Ανώτερη δομή και λειτουργία σημαίνει ανώτερ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όρια σωματικής ανάπτυξης και συγχρόνω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ανώτερα όρια εκδήλωσης της υγεία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24320" y="5089680"/>
            <a:ext cx="589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Η σωματική ανάπτυξη αποτελεί μια μορφ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έκφρασης της υγείας του ανθρώπο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216160" y="3664080"/>
            <a:ext cx="4559400" cy="1054080"/>
          </a:xfrm>
          <a:custGeom>
            <a:avLst/>
            <a:gdLst>
              <a:gd name="textAreaLeft" fmla="*/ 168840 w 4559400"/>
              <a:gd name="textAreaRight" fmla="*/ 4390560 w 4559400"/>
              <a:gd name="textAreaTop" fmla="*/ 38880 h 1054080"/>
              <a:gd name="textAreaBottom" fmla="*/ 842040 h 1054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Σωματική ανάπτυξη και υγεία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72360" y="2139840"/>
            <a:ext cx="6714000" cy="14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Υγεία δε σημαίνει έλλειψη ασθένεια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ούτε ιδανική ισορροπία μεταξύ τω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λειτουργιώ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93840" y="3718080"/>
            <a:ext cx="440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Η Αθλητική Επιστήμη συναρτ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την υγεία με την αποδοτικότητ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66600" y="4830840"/>
            <a:ext cx="6927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Η σωματική ανάπτυξη σχετίζεται με την αποδοτικότητα, άρ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η υγεία συναρτάταται ευθέως με την σωματική ανάπτυξ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416560" y="5264280"/>
            <a:ext cx="2919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914400"/>
            <a:ext cx="7696080" cy="3962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43400" y="10666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181480" y="1828800"/>
            <a:ext cx="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19920" y="3848040"/>
            <a:ext cx="0" cy="10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0" y="452124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29000" y="1905120"/>
            <a:ext cx="0" cy="297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90920" y="38862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45720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5320" y="3807000"/>
            <a:ext cx="6741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13%    2,14%      13,59%     34.59%      34,59%      13,59%         2,14%      0,13%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47920" y="41148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315200" y="41148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57400" y="41148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53080" y="41148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9520" y="4923000"/>
            <a:ext cx="7430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4s                 -3s               -2s               -1s                   x                1s                 2s                3s                  4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5181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518148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76520" y="518148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29000" y="518148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43400" y="518148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81480" y="518148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518148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0" y="518148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1160" y="5227560"/>
            <a:ext cx="7889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                 20                30                40                  50                60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65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70                80                  90        (Τ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76920" y="1979640"/>
            <a:ext cx="2225520" cy="106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200 cm Μήκο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60cm δίπλωση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4”7 s δρόμο ταχύτητα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546880" y="1859040"/>
            <a:ext cx="3538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5562360" y="2362320"/>
            <a:ext cx="7596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62720" y="2819520"/>
            <a:ext cx="0" cy="30477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8080" y="480060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772400" y="480060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54864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90920" y="548640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76520" y="548640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548640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43400" y="548640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81480" y="548640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19920" y="548640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0" y="548640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1160" y="5608800"/>
            <a:ext cx="7889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,1                 2                 16                  50                84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8              99,9                           (%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58672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586728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76520" y="586728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86728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43400" y="586728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181480" y="586728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19920" y="586728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0" y="586728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43680" y="5989680"/>
            <a:ext cx="7856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               2,5                   5                7,5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                           Σχολική κλίμακ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Αναγωγή επιδόσεων σε μονάδες κλίμακας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-1627920" y="1030320"/>
            <a:ext cx="11865960" cy="3770640"/>
            <a:chOff x="-1627920" y="1030320"/>
            <a:chExt cx="11865960" cy="3770640"/>
          </a:xfrm>
        </p:grpSpPr>
        <p:grpSp>
          <p:nvGrpSpPr>
            <p:cNvPr id="274" name=""/>
            <p:cNvGrpSpPr/>
            <p:nvPr/>
          </p:nvGrpSpPr>
          <p:grpSpPr>
            <a:xfrm>
              <a:off x="-1627920" y="1599840"/>
              <a:ext cx="5132880" cy="3201120"/>
              <a:chOff x="-1627920" y="1599840"/>
              <a:chExt cx="5132880" cy="3201120"/>
            </a:xfrm>
          </p:grpSpPr>
          <p:sp>
            <p:nvSpPr>
              <p:cNvPr id="275" name=""/>
              <p:cNvSpPr/>
              <p:nvPr/>
            </p:nvSpPr>
            <p:spPr>
              <a:xfrm>
                <a:off x="-1627920" y="1599840"/>
                <a:ext cx="4417560" cy="3201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394" y="12901"/>
                    </a:moveTo>
                    <a:arcTo wR="10800" hR="10800" stAng="672944" swAng="44474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394" y="12901"/>
                    </a:moveTo>
                    <a:arcTo wR="10800" hR="10800" stAng="672944" swAng="4447493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2742840" y="1676520"/>
                <a:ext cx="762120" cy="182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3316320" y="1030320"/>
              <a:ext cx="1980360" cy="304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1" y="5291"/>
                  </a:moveTo>
                  <a:arcTo wR="10800" hR="10800" stAng="-8959644" swAng="7445391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1" y="5291"/>
                  </a:moveTo>
                  <a:arcTo wR="10800" hR="10800" stAng="-8959644" swAng="7445391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5105880" y="1599840"/>
              <a:ext cx="5132160" cy="3201120"/>
              <a:chOff x="5105880" y="1599840"/>
              <a:chExt cx="5132160" cy="3201120"/>
            </a:xfrm>
          </p:grpSpPr>
          <p:sp>
            <p:nvSpPr>
              <p:cNvPr id="279" name=""/>
              <p:cNvSpPr/>
              <p:nvPr/>
            </p:nvSpPr>
            <p:spPr>
              <a:xfrm flipH="1">
                <a:off x="5820840" y="1599840"/>
                <a:ext cx="4416840" cy="3201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394" y="12901"/>
                    </a:moveTo>
                    <a:arcTo wR="10800" hR="10800" stAng="672944" swAng="44474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394" y="12901"/>
                    </a:moveTo>
                    <a:arcTo wR="10800" hR="10800" stAng="672944" swAng="4447493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105880" y="1676520"/>
                <a:ext cx="761760" cy="182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Αξιολόγηση της ανάπτυξης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75600" y="2879640"/>
            <a:ext cx="66560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66ff33"/>
                </a:solidFill>
                <a:latin typeface="Arial"/>
              </a:rPr>
              <a:t>Για να χαρακτηρισθεί η ανάπτυξη κανονική ή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66ff33"/>
                </a:solidFill>
                <a:latin typeface="Arial"/>
              </a:rPr>
              <a:t>φυσιολογική ή παθολογική πρέπει να υπάρχου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66ff33"/>
                </a:solidFill>
                <a:latin typeface="Arial"/>
              </a:rPr>
              <a:t>δύο στοιχεία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1.Αποτέλεσμα της εξέταση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2.Μέτρο σύγκρισης (Norm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2209680"/>
            <a:ext cx="71625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Π ρ ο σ ο χ ή !!!!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50840" y="2286000"/>
            <a:ext cx="695016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Η Φυσική Αγωγή πρέπει να συνδεθεί με την ανάπτυξη του ανθρώπου για να αποκτήσει το κύρος που της αξίζε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768240" y="2292480"/>
            <a:ext cx="7531200" cy="1054080"/>
          </a:xfrm>
          <a:custGeom>
            <a:avLst/>
            <a:gdLst>
              <a:gd name="textAreaLeft" fmla="*/ 278640 w 7531200"/>
              <a:gd name="textAreaRight" fmla="*/ 7252560 w 7531200"/>
              <a:gd name="textAreaTop" fmla="*/ 38880 h 1054080"/>
              <a:gd name="textAreaBottom" fmla="*/ 842040 h 1054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4220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800" spc="-1" strike="noStrike" u="sng">
                <a:solidFill>
                  <a:srgbClr val="ffff00"/>
                </a:solidFill>
                <a:uFillTx/>
                <a:latin typeface="Arial"/>
              </a:rPr>
              <a:t>Norma</a:t>
            </a:r>
            <a:br>
              <a:rPr sz="4800"/>
            </a:br>
            <a:r>
              <a:rPr b="0" lang="el-GR" sz="3200" spc="-1" strike="noStrike">
                <a:solidFill>
                  <a:srgbClr val="ffff00"/>
                </a:solidFill>
                <a:latin typeface="Arial"/>
              </a:rPr>
              <a:t>Μέτρο για την αξιολόγηση της ανάπτυξης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21160" y="2346480"/>
            <a:ext cx="7309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ο μέτρο (Norma) για την αξιολόγηση της ανάπτυξ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οτελεί κοινωνικο-βιολογικό σύστημα αναφορά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1981080"/>
            <a:ext cx="7315200" cy="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49760" y="32608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22240" y="3565440"/>
            <a:ext cx="7419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Το μέτρο (Norma) για την αξιολόγηση της ανάπτυξ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είναι το στατιστικό  όριο  που περικλείει  το  διάστημα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των τιμών  όπου, με  βάση  το  μέσο  όρο  (χ)  και  τ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μεταβλητότητα  (s)   της  εξεταζόμενης   παραμέτρου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εντάσσεται η πλειοψηφία των ατόμων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4038480"/>
            <a:ext cx="76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781680" y="441972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Γενικές παρατηρήσεις για την αξιολόγηση της ανάπτυξης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Η ανάπτυξη εξετάζεται και αξιολογείται με βάση τη φαινοτυπική εικόν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Ο γονότυπος ορίζει και το περιβάλλον αποφασίζει τα όρια της ανάπτυξη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Η ανάπτυξη (Α) είναι συνάρτηση (f) του γονότυπου (Γ), του περιβάλλοντος και του χρόνου (t)   [A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ti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=f(Γ,Π,t),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όπου i=1,….n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Η σωματική ανάπτυξη του ατόμου αξιολογείται με βάση τις μέσες τιμές (χ) ενός σχετικά ομοιογενούς δείγματο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480" y="1981080"/>
            <a:ext cx="7543800" cy="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76920" y="5181480"/>
            <a:ext cx="7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135160" y="3583080"/>
            <a:ext cx="10328040" cy="3047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971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971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600200" y="990720"/>
            <a:ext cx="0" cy="44193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35160" y="1525680"/>
            <a:ext cx="10667880" cy="502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97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976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040840" y="39924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11480" y="1830240"/>
            <a:ext cx="9448200" cy="472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84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845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11480" y="2820960"/>
            <a:ext cx="944820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84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845"/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00200" y="5410080"/>
            <a:ext cx="66294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133720" y="54100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67480" y="54100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40840" y="5470560"/>
            <a:ext cx="39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298640" y="5546880"/>
            <a:ext cx="39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9740000">
            <a:off x="2352600" y="1101240"/>
            <a:ext cx="2614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Π ε ρ ι β ά λ λ ο 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21120000">
            <a:off x="3735360" y="4602240"/>
            <a:ext cx="2614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Π ε ρ ι β ά λ λ ο 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4120" y="762120"/>
            <a:ext cx="75960" cy="68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48320" y="914400"/>
            <a:ext cx="228600" cy="68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1219320"/>
            <a:ext cx="304920" cy="68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48120" y="1905120"/>
            <a:ext cx="30456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362320" y="2133720"/>
            <a:ext cx="457200" cy="533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2819520"/>
            <a:ext cx="53316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57400" y="2438280"/>
            <a:ext cx="45720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600200"/>
            <a:ext cx="22860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324480" y="373392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867280" y="373392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5257800" y="380952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4647960" y="3885840"/>
            <a:ext cx="152280" cy="68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3962160" y="4038480"/>
            <a:ext cx="228600" cy="609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3352320" y="4266720"/>
            <a:ext cx="304920" cy="68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flipV="1">
            <a:off x="2666520" y="4571640"/>
            <a:ext cx="381240" cy="609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16200000">
            <a:off x="6616440" y="2185920"/>
            <a:ext cx="1609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Όρια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προσαρμογή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467480" y="1600200"/>
            <a:ext cx="0" cy="19051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16200000">
            <a:off x="6237000" y="2030040"/>
            <a:ext cx="1212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όρια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αντίδραση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0" y="182880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20940000">
            <a:off x="4557240" y="2033280"/>
            <a:ext cx="167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φαινότυπος χ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20940000">
            <a:off x="4404960" y="2947680"/>
            <a:ext cx="167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φαινότυπος χ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21520" y="4923000"/>
            <a:ext cx="805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Ελάχιστο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όριο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1160" y="134136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Μέγιστο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όριο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658880" y="4237200"/>
            <a:ext cx="1038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γονότυπος χ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05120" y="57150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Σχέση γονότυπου και περιβάλλοντος </a:t>
            </a: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(Ceslik 1980)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00"/>
                </a:solidFill>
                <a:latin typeface="Arial"/>
              </a:rPr>
              <a:t>Κρίσημα όρια της οντογένεσης και της φιλογένεσης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66ff33"/>
                </a:solidFill>
                <a:uFillTx/>
                <a:latin typeface="Arial"/>
              </a:rPr>
              <a:t>Όριο αντίδρασης,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καθορίζεται γενετικά και αντιστοιχεί στο εύρος της φαινοτυπικής  διακύμανσης ενός γονότυπου, που μπορεί να βρεθεί κάτω από την επίδραση ενός συγκεκριμένου περιβάλλοντο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66ff33"/>
                </a:solidFill>
                <a:uFillTx/>
                <a:latin typeface="Arial"/>
              </a:rPr>
              <a:t>Όριο προσαρμογής,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είναι το σχετικά σταθερό χαρακτηριστικό σημείο συνταύτισης της γενετικής δομής με το συνεχώς μεταβαλλόμενο περιβάλλον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1905120"/>
            <a:ext cx="7315200" cy="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685800" y="990720"/>
            <a:ext cx="7696080" cy="3886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869440" y="1600560"/>
            <a:ext cx="4418640" cy="319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48" y="21580"/>
                </a:moveTo>
                <a:arcTo wR="10800" hR="10800" stAng="5607610" swAng="4074578"/>
                <a:lnTo>
                  <a:pt x="10800" y="10800"/>
                </a:lnTo>
                <a:close/>
              </a:path>
              <a:path fill="none" w="21600" h="21600">
                <a:moveTo>
                  <a:pt x="10148" y="21580"/>
                </a:moveTo>
                <a:arcTo wR="10800" hR="10800" stAng="5607610" swAng="4074578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105520" y="1676520"/>
            <a:ext cx="990360" cy="220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-1627920" y="1599840"/>
            <a:ext cx="4417560" cy="3201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94" y="12901"/>
                </a:moveTo>
                <a:arcTo wR="10800" hR="10800" stAng="672944" swAng="4447493"/>
                <a:lnTo>
                  <a:pt x="10800" y="10800"/>
                </a:lnTo>
                <a:close/>
              </a:path>
              <a:path fill="none" w="21600" h="21600">
                <a:moveTo>
                  <a:pt x="21394" y="12901"/>
                </a:moveTo>
                <a:arcTo wR="10800" hR="10800" stAng="672944" swAng="4447493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742840" y="1676520"/>
            <a:ext cx="762120" cy="18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16320" y="1030320"/>
            <a:ext cx="198036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11" y="5291"/>
                </a:moveTo>
                <a:arcTo wR="10800" hR="10800" stAng="-8959644" swAng="7445391"/>
                <a:lnTo>
                  <a:pt x="10800" y="10800"/>
                </a:lnTo>
                <a:close/>
              </a:path>
              <a:path fill="none" w="21600" h="21600">
                <a:moveTo>
                  <a:pt x="1511" y="5291"/>
                </a:moveTo>
                <a:arcTo wR="10800" hR="10800" stAng="-8959644" swAng="7445391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67080" y="10666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81480" y="1905120"/>
            <a:ext cx="0" cy="297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019920" y="3809880"/>
            <a:ext cx="0" cy="106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0" y="45720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352680" y="2057400"/>
            <a:ext cx="0" cy="2819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0920" y="38862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52480" y="45720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51640" y="3807000"/>
            <a:ext cx="6640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13%  2,14%      13,59%     34.13%      34,13%      13,59%         2,14%      0,13%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447920" y="41148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315200" y="41911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57400" y="41148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553080" y="41148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436760" y="4906800"/>
            <a:ext cx="5622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3s       -2s      -1s          x          1s        2s        3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52680" y="525780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81480" y="525780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352680" y="548640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48320" y="5486400"/>
            <a:ext cx="5331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90920" y="525780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590920" y="5791320"/>
            <a:ext cx="1295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19920" y="525780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648320" y="579132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94760" y="5413320"/>
            <a:ext cx="95760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8.26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5.44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9.72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752480" y="525780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752480" y="601992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648320" y="6019920"/>
            <a:ext cx="22096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58000" y="525780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ff33"/>
                </a:solidFill>
                <a:latin typeface="Arial"/>
              </a:rPr>
              <a:t>Νόμος της κανονικής κατανομής του Gaus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Κρίσιμα όρια αξιολόγησης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Μέση τιμή κανονικού ορίου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είναι ο μέσος όρος (χ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Κανονικό όριο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είναι το διάστημα τιμών χ+1s. Το όριο αυτό αντιστοιχεί στο όριο αντίδραση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Φυσιολογικό όριο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είναι το διάστημα τιμών χ+3s. Το όριο αυτό αντιστοιχεί στο όριο προσαρμογή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Παθολογικό όριο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είναι οι τιμές εκτός του φυσιολογικού ορίο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543800" y="31240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133720" y="23623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371600" y="44956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143000" y="42670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315200" y="28954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38080" y="1752480"/>
            <a:ext cx="7086600" cy="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447920" y="2362320"/>
            <a:ext cx="5029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971800" y="1371600"/>
            <a:ext cx="1905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447920" y="23623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080" y="23623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84040" y="2484360"/>
            <a:ext cx="5898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100      -80       -60       -40       -20       0         20         40         60      80      100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514600" y="23623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505320" y="23623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62520" y="23623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495680" y="23623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562720" y="23623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19920" y="23623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536880" y="2131920"/>
            <a:ext cx="1863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Δείκτης Σωματική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Ανάπτυξη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05320" y="838080"/>
            <a:ext cx="0" cy="251460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95680" y="838080"/>
            <a:ext cx="0" cy="251460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330720" y="1469880"/>
            <a:ext cx="1382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     50       9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962520" y="137160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858560" y="1217520"/>
            <a:ext cx="2376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Arial"/>
              </a:rPr>
              <a:t>εκατονταβάθμια κλίμακα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477120" y="23623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414160" y="2865600"/>
            <a:ext cx="3039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Καθυστέρηση                          Επιτάχυνση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48120" y="2362320"/>
            <a:ext cx="0" cy="1828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29200" y="2362320"/>
            <a:ext cx="0" cy="1828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362320" y="41911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029200" y="4191120"/>
            <a:ext cx="762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203120" y="4037040"/>
            <a:ext cx="1251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Παθολογική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98800" y="4037040"/>
            <a:ext cx="1251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Παθολογική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256920" y="3451320"/>
            <a:ext cx="1579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Φυσιολογικά όρια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562200" y="893880"/>
            <a:ext cx="8906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κανονικά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όρια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800600" y="35812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048120" y="35812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43000" y="4754520"/>
            <a:ext cx="660096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Arial"/>
              </a:rPr>
              <a:t>Κρίσιμα όρια ανάπτυξης προσαρμοσμένα στην </a:t>
            </a:r>
            <a:br>
              <a:rPr sz="2400"/>
            </a:br>
            <a:r>
              <a:rPr b="0" lang="el-GR" sz="2400" spc="-1" strike="noStrike">
                <a:solidFill>
                  <a:srgbClr val="ffff00"/>
                </a:solidFill>
                <a:latin typeface="Arial"/>
              </a:rPr>
              <a:t>εκατονταβάθμια κλίμακα </a:t>
            </a:r>
            <a:r>
              <a:rPr b="0" lang="el-GR" sz="1800" spc="-1" strike="noStrike">
                <a:solidFill>
                  <a:srgbClr val="ffff00"/>
                </a:solidFill>
                <a:latin typeface="Arial"/>
              </a:rPr>
              <a:t>(Malinowski &amp; Ceslik 1980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Arial"/>
              </a:rPr>
              <a:t>Πως η αξιολόγηση της ανάπτυξης συμβάλλει στη διαμόρφωση του προγράμματος </a:t>
            </a:r>
            <a:r>
              <a:rPr b="0" lang="el-GR" sz="2000" spc="-1" strike="noStrike">
                <a:solidFill>
                  <a:srgbClr val="ffff00"/>
                </a:solidFill>
                <a:latin typeface="Arial"/>
              </a:rPr>
              <a:t>(Mathews 1973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38080" y="220968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38080" y="289548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38080" y="472428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23240" y="2222640"/>
            <a:ext cx="22654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ομάδα 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χαμηλής επίδοση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112080" y="2222640"/>
            <a:ext cx="215712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ομάδα 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υψηλής επίδοση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425040" y="2222640"/>
            <a:ext cx="219384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ομάδα 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μεσαίας επίδοση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459480" y="3024360"/>
            <a:ext cx="15339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Παιδία πο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σημειώνου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αθλητικέ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επιτυχίε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486960" y="3024360"/>
            <a:ext cx="2323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Παιδιά πο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ανταποκρίνοντα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στις απαιτήσει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του προγράμματο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19720" y="3100320"/>
            <a:ext cx="2323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Παιδιά που δε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ανταποκρίνοντα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στις απαιτήσει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του προγράμματο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337200" y="4327560"/>
            <a:ext cx="2711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Ομοιογενής ομάδ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22600" y="4889520"/>
            <a:ext cx="16344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Ξεχωριστ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ομάδ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233040" y="4813200"/>
            <a:ext cx="25959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Προπόνηση σ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αθλητικό σύλλογ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38080" y="434340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574720" y="1584360"/>
            <a:ext cx="4042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Αποτελέσματα εξετάσεων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124080" y="2209680"/>
            <a:ext cx="0" cy="251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95880" y="2209680"/>
            <a:ext cx="0" cy="251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Η παρακολούθηση της σωματικής ανάπτυξης αποτελεί έργο των ειδικών της Αθλητικής Επιστήμης, διότι: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Η αποδοτικότητα συνδέεται νομοτελειακά με τη σωματική ανάπτυξ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Οι ειδικοί της Αθλητικής Επιστήμης ερευνούν τους νόμους της σωματικής ανάπτυξη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Οι ειδικοί της Αθλητικής Επιστήμης γνωρίζουν τι ωφελεί και τι βλάπτει την ανάπτυξ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Οι γυμναστές γνωρίζουν τους  φυσιολογικούς και μορφολογικούς μηχανισμούς που στηρίζουν την ανάπτυξ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Γιατί πρέπει να εξετάζουμε και να αξιολογούμε την ανάπτυξη;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1.Η φυσιολογική βάση όλων των αναπτυ-ξιακών διαδικασιών είναι ο ανθρώπινος οργανισμός, που έχει τη δική του δομή και υπακούει σε ιδιαίτερους νόμους και κανόνε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2.Τα πιο λεπτά αισθήματα του ανθρώπου ή ακόμη οι επιθυμίες  και  τα  οράματά του αλληλεπιδρούν με  τις φυσιολογικές λειτουργίες του οργανισμο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Γιατί πρέπει να εξετάζουμε και να αξιολογούμε την ανάπτυξη;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3152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Η παρακολούθηση συνδέθηκε με την αρχή ότι η πρόληψη είναι προτιμότερη από τη θεραπεί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Η ανάπτυξη συσχετίζεται με την αποδοτικότητ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Τι σημαίνει ανάπτυξη;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47720" y="2666880"/>
            <a:ext cx="7405560" cy="27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Είναι η δυναμική αλυσίδα των αλλαγών που αρχίζει από την πλήρη ανικανότητα του νεογέννητου και φτάνει στην τελειό-τητα και την πλήρη ανεξαρτησία του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ενήλικα (Tanner 196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Οι αλλαγές που συνθέτουν το φαινόμενο της ανάπτυξης διακρίνονται στις εξής περιπτώσεις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39152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Αύξηση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ποσοτικές αλλαγέ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Διαφοροποίηση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ποιοτικές αλλαγέ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Ωριμότητα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τελειοποίηση και πλήρη εξειδίκευση των συστημάτω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9840" y="14475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Διάκριση όρων: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φυσική ανάπτυξ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σωματική ανάπτυξ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αρμονική σωματική ανάπτυξ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DIMITRIS</dc:creator>
  <dc:description/>
  <dc:language>en-US</dc:language>
  <cp:lastModifiedBy>dhatzih</cp:lastModifiedBy>
  <dcterms:modified xsi:type="dcterms:W3CDTF">2001-11-20T14:43:05Z</dcterms:modified>
  <cp:revision>57</cp:revision>
  <dc:subject/>
  <dc:title>No Slide Title</dc:title>
</cp:coreProperties>
</file>