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9.wmf" ContentType="image/x-wmf"/>
  <Override PartName="/ppt/media/image19.wmf" ContentType="image/x-wmf"/>
  <Override PartName="/ppt/media/image1.wmf" ContentType="image/x-wmf"/>
  <Override PartName="/ppt/media/image10.wmf" ContentType="image/x-wmf"/>
  <Override PartName="/ppt/media/image2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1E6F-5358-4348-9187-B6F663EC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BCA4-99F7-4184-853B-6FCA05B1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1FA-0C3E-4742-9CD7-0A33EEA3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65F-DE6A-4E27-803F-F1843A34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34D1-B8E6-4830-A10E-9FFA3E12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6257-712A-45B6-89C3-3468546C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33CD-CCF4-4E29-BBF0-D5A06F33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7CE4-F7CD-4469-BB52-85DA3F22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1E26-6D09-435E-AC81-E2961B8C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FAA7-C091-42BB-9734-A6B598E5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C00E-203C-4C8B-BE4E-E25BB2C3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01C-E3C4-4780-B91B-E2A98F7E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89E2-B82A-4C0B-B336-29D997CD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DB84-2C3C-4C19-9061-B9DCB554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6FF7-4211-4D8F-B30E-59EEBD2F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B537-3761-4C20-85C9-5B7A5578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8B46-CE51-41FA-A0BA-D5113EC0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71A-AC02-41D1-A08D-FE9F0D0E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8F1-91BD-4741-A222-DD714EE7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868C-06BE-4BF6-B88D-5445A3C4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F104-DFE5-41F7-988C-1C105860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07D7-D3A4-4184-94F5-D4C04262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C03E-04FD-4D5C-B466-F1F2BEB4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D60-EC29-4F53-B21E-9687966E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4F5F-D59E-4558-8DEE-2F5ED980D2C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2402-560A-4666-B634-73696E4B627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3429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600" spc="-1" strike="noStrike">
                <a:solidFill>
                  <a:srgbClr val="004c2b"/>
                </a:solidFill>
                <a:latin typeface="Arial"/>
              </a:rPr>
              <a:t>Νόμοι</a:t>
            </a:r>
            <a:br>
              <a:rPr sz="6600"/>
            </a:br>
            <a:r>
              <a:rPr b="0" lang="el-GR" sz="6600" spc="-1" strike="noStrike">
                <a:solidFill>
                  <a:srgbClr val="004c2b"/>
                </a:solidFill>
                <a:latin typeface="Arial"/>
              </a:rPr>
              <a:t>Φυσικής</a:t>
            </a:r>
            <a:br>
              <a:rPr sz="6600"/>
            </a:br>
            <a:r>
              <a:rPr b="0" lang="el-GR" sz="6600" spc="-1" strike="noStrike">
                <a:solidFill>
                  <a:srgbClr val="004c2b"/>
                </a:solidFill>
                <a:latin typeface="Arial"/>
              </a:rPr>
              <a:t>Αγωγής</a:t>
            </a:r>
            <a:endParaRPr b="0" lang="en-US" sz="6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2286000"/>
            <a:ext cx="3429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600" spc="-1" strike="noStrike">
                <a:solidFill>
                  <a:srgbClr val="ff0000"/>
                </a:solidFill>
                <a:latin typeface="Arial"/>
              </a:rPr>
              <a:t>Θεωρία</a:t>
            </a:r>
            <a:br>
              <a:rPr sz="6600"/>
            </a:br>
            <a:r>
              <a:rPr b="0" lang="el-GR" sz="6600" spc="-1" strike="noStrike">
                <a:solidFill>
                  <a:srgbClr val="ff0000"/>
                </a:solidFill>
                <a:latin typeface="Arial"/>
              </a:rPr>
              <a:t>Φυσικής</a:t>
            </a:r>
            <a:br>
              <a:rPr sz="6600"/>
            </a:br>
            <a:r>
              <a:rPr b="0" lang="el-GR" sz="6600" spc="-1" strike="noStrike">
                <a:solidFill>
                  <a:srgbClr val="ff0000"/>
                </a:solidFill>
                <a:latin typeface="Arial"/>
              </a:rPr>
              <a:t>Αγωγής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09480" y="2819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33"/>
                </a:solidFill>
                <a:latin typeface="Arial Narrow"/>
              </a:rPr>
              <a:t>Σχολικό αντικείμενο - προπόνηση - αναψυχή (πρακτική δραστηριότητα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33"/>
                </a:solidFill>
                <a:latin typeface="Arial Narrow"/>
              </a:rPr>
              <a:t>Επιστήμη (σύστημα γνώσης - θεωρία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Η Φυσική Αγωγή υπάρχει σε δύο κατηγορίε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438280"/>
            <a:ext cx="7315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Η Φυσική Αγωγή διαφέρει από τις άλλες επιστήμε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rial Narrow"/>
              </a:rPr>
              <a:t>Έχει δική της θεωρί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rial Narrow"/>
              </a:rPr>
              <a:t>Έχει διαφορετικό αντικείμενο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rial Narrow"/>
              </a:rPr>
              <a:t>Διαθέτει ιδιαίτερες μεθόδους έρευνα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rial Narrow"/>
              </a:rPr>
              <a:t>Διαθέτει ξεχωριστά μέσα και μεθόδους επίδρασης στην προσωπικότητα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133720"/>
            <a:ext cx="685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Διαρχική αντίληψη για τον άνθρωπο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Επικράτηση της νοησιαρχικής παιδαγωγική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Η προσωπικότητα θεωρούνταν “ασώματη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Στη γενική παιδαγωγική επικρατούσε βιοφοβί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Γιατί η Φυσική Αγωγή ήταν στο </a:t>
            </a:r>
            <a:br>
              <a:rPr sz="3200"/>
            </a:b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περιθώριο των παιδαγωγικών θεωριών;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209680"/>
            <a:ext cx="723924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4006800" cy="28573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ff"/>
                </a:solidFill>
                <a:latin typeface="Arial"/>
              </a:rPr>
              <a:t>Γιατί η Φυσική Αγωγή θεωρείται δευτερεύον μάθημα;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2628720" cy="3352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059200" y="266688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ff"/>
                </a:solidFill>
                <a:latin typeface="Times New Roman"/>
              </a:rPr>
              <a:t>Α</a:t>
            </a:r>
            <a:endParaRPr b="0" lang="en-US" sz="9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5560" y="2819520"/>
            <a:ext cx="99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ff"/>
                </a:solidFill>
                <a:latin typeface="Times New Roman"/>
              </a:rPr>
              <a:t>Β</a:t>
            </a:r>
            <a:endParaRPr b="0" lang="en-US" sz="9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133720" y="3124080"/>
            <a:ext cx="2209680" cy="18288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819680" cy="2698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029200" y="3200400"/>
            <a:ext cx="2057400" cy="1905120"/>
          </a:xfrm>
          <a:prstGeom prst="downArrow">
            <a:avLst>
              <a:gd name="adj1" fmla="val 64287"/>
              <a:gd name="adj2" fmla="val 2979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Με βάση τη διαρχική αντίληψη, το σώμα και οι λειτουργίες του έχουν δευτερεύουσα αξία, σε σύγκριση με το πνεύμα και την ψυχή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41" name="brain" descr=""/>
          <p:cNvPicPr/>
          <p:nvPr/>
        </p:nvPicPr>
        <p:blipFill>
          <a:blip r:embed="rId2"/>
          <a:stretch/>
        </p:blipFill>
        <p:spPr>
          <a:xfrm>
            <a:off x="5410080" y="3429000"/>
            <a:ext cx="1295640" cy="1090440"/>
          </a:xfrm>
          <a:prstGeom prst="rect">
            <a:avLst/>
          </a:prstGeom>
          <a:ln w="0">
            <a:noFill/>
          </a:ln>
        </p:spPr>
      </p:pic>
      <p:pic>
        <p:nvPicPr>
          <p:cNvPr id="142" name="k4" descr=""/>
          <p:cNvPicPr/>
          <p:nvPr/>
        </p:nvPicPr>
        <p:blipFill>
          <a:blip r:embed="rId3"/>
          <a:stretch/>
        </p:blipFill>
        <p:spPr>
          <a:xfrm>
            <a:off x="2693880" y="3390840"/>
            <a:ext cx="10591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91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0000"/>
                </a:solidFill>
                <a:latin typeface="Arial Narrow"/>
              </a:rPr>
              <a:t>Η Φυσική Αγωγή ως δραστηριότητα είναι δευτερεύουσα επειδή προάγει το σώμα, που θεωρείται δευτερεύουσα αξία, ενώ </a:t>
            </a:r>
            <a:br>
              <a:rPr sz="3600"/>
            </a:br>
            <a:r>
              <a:rPr b="0" lang="el-GR" sz="3600" spc="-1" strike="noStrike">
                <a:solidFill>
                  <a:srgbClr val="ff0000"/>
                </a:solidFill>
                <a:latin typeface="Arial Narrow"/>
              </a:rPr>
              <a:t>ό,τι προάγει τη νόηση είναι πρωτεύο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09680" y="3352680"/>
            <a:ext cx="1219320" cy="1920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172200" y="2971800"/>
            <a:ext cx="930240" cy="2031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562720" y="2895480"/>
            <a:ext cx="2133360" cy="2286000"/>
          </a:xfrm>
          <a:prstGeom prst="downArrow">
            <a:avLst>
              <a:gd name="adj1" fmla="val 50000"/>
              <a:gd name="adj2" fmla="val 26789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3048120"/>
            <a:ext cx="2590920" cy="2361960"/>
          </a:xfrm>
          <a:prstGeom prst="up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Με βάση τη νοησιαρχία η νόηση είναι το </a:t>
            </a:r>
            <a:br>
              <a:rPr sz="3200"/>
            </a:b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κυρίαρχο γνώρισμα της ανθρώπινης ύπαρξης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49" name="brain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181840" cy="4410000"/>
          </a:xfrm>
          <a:prstGeom prst="rect">
            <a:avLst/>
          </a:prstGeom>
          <a:ln w="0">
            <a:noFill/>
          </a:ln>
        </p:spPr>
      </p:pic>
      <p:pic>
        <p:nvPicPr>
          <p:cNvPr id="150" name="k1" descr=""/>
          <p:cNvPicPr/>
          <p:nvPr/>
        </p:nvPicPr>
        <p:blipFill>
          <a:blip r:embed="rId2"/>
          <a:stretch/>
        </p:blipFill>
        <p:spPr>
          <a:xfrm>
            <a:off x="396252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1066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0000"/>
                </a:solidFill>
                <a:latin typeface="Arial Narrow"/>
              </a:rPr>
              <a:t>Η νοητική απόδοση θεωρείται </a:t>
            </a:r>
            <a:br>
              <a:rPr sz="3600"/>
            </a:br>
            <a:r>
              <a:rPr b="0" lang="el-GR" sz="3600" spc="-1" strike="noStrike">
                <a:solidFill>
                  <a:srgbClr val="ff0000"/>
                </a:solidFill>
                <a:latin typeface="Arial Narrow"/>
              </a:rPr>
              <a:t>ανεξάρτητη από τη σωματική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23880" y="3351240"/>
            <a:ext cx="2362320" cy="1684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253040" y="3637080"/>
            <a:ext cx="6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333333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419720" y="3732120"/>
            <a:ext cx="304560" cy="83844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3274920"/>
            <a:ext cx="25257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Για τον καθορισμό των νόμων της Φυσικής Αγωγής πρέπει να στηριχθούμε: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335232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0000"/>
                </a:solidFill>
                <a:latin typeface="Arial Narrow"/>
              </a:rPr>
              <a:t>Στο θεμελιώδη νόμο της κίνηση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0000"/>
                </a:solidFill>
                <a:latin typeface="Arial Narrow"/>
              </a:rPr>
              <a:t>Στο νόμο της παγκόσμιας έλξη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2514600"/>
            <a:ext cx="7162920" cy="0"/>
          </a:xfrm>
          <a:prstGeom prst="line">
            <a:avLst/>
          </a:prstGeom>
          <a:ln w="76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ff"/>
                </a:solidFill>
                <a:latin typeface="Arial"/>
              </a:rPr>
              <a:t>Νόμοι βιολογικού χαρακτήρα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Ενότητα του οργανισμού με το περιβάλλον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Αδιαίρετο του ανθρώπινου οργανισμού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Αλληλεξάρτηση μεταξύ δομής και λειτουργίας (αρχή της άσκησης και της ανάπτυξης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Υπέραναπλήρωση της ενέργεια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81080"/>
            <a:ext cx="6705360" cy="0"/>
          </a:xfrm>
          <a:prstGeom prst="line">
            <a:avLst/>
          </a:prstGeom>
          <a:ln w="76320">
            <a:solidFill>
              <a:srgbClr val="002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240" y="1066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4c2b"/>
                </a:solidFill>
                <a:latin typeface="Arial"/>
              </a:rPr>
              <a:t>Σύγχρονη αποστολή της </a:t>
            </a:r>
            <a:br>
              <a:rPr sz="4000"/>
            </a:br>
            <a:r>
              <a:rPr b="0" lang="el-GR" sz="4000" spc="-1" strike="noStrike">
                <a:solidFill>
                  <a:srgbClr val="004c2b"/>
                </a:solidFill>
                <a:latin typeface="Arial"/>
              </a:rPr>
              <a:t>Φυσικής Αγωγής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Επιστημονική παρακολούθηση της ανάπτυξη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Παιδαγωγική παρέμβαση στην πορεία της ανάπτυξη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15130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520" y="91440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0000"/>
                </a:solidFill>
                <a:latin typeface="Arial Narrow"/>
              </a:rPr>
              <a:t>Ενότητα του οργανισμού </a:t>
            </a:r>
            <a:br>
              <a:rPr sz="4400"/>
            </a:br>
            <a:r>
              <a:rPr b="0" lang="el-GR" sz="4400" spc="-1" strike="noStrike">
                <a:solidFill>
                  <a:srgbClr val="ff0000"/>
                </a:solidFill>
                <a:latin typeface="Arial Narrow"/>
              </a:rPr>
              <a:t>με το περιβάλλον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 Narrow"/>
              </a:rPr>
              <a:t>Σε κάθε αλλαγή στο περιβάλλον ο οργανισμός απαντά με επανοργάνωσ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 Narrow"/>
              </a:rPr>
              <a:t>Το περιβάλλον προκαλεί απόκλιση του γονότυπου από το φαινότυπο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 Narrow"/>
              </a:rPr>
              <a:t>Το αντανακλαστικό είναι ο συνδετικός μηχανισμός του οργανισμού με το περιβάλλον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286000"/>
            <a:ext cx="6705360" cy="0"/>
          </a:xfrm>
          <a:prstGeom prst="line">
            <a:avLst/>
          </a:prstGeom>
          <a:ln w="76320">
            <a:solidFill>
              <a:srgbClr val="002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5715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0000"/>
                </a:solidFill>
                <a:latin typeface="Arial Narrow"/>
              </a:rPr>
              <a:t>Αδιαίρετο του ανθρώπινου οργανισμού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2666880"/>
            <a:ext cx="77724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 Narrow"/>
              </a:rPr>
              <a:t>Ο ανθρώπινος οργανισμός αποτελεί μια ενιαία και μοναδική βιο-ψυχο-κοινωνική οντότητ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 Narrow"/>
              </a:rPr>
              <a:t>Στην αλληλεπίδραση του οργανισμού με το περιβάλλον παίρνουν μέρος όλα τα όργανα με τρόπο αλληλέγγυ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 Narrow"/>
              </a:rPr>
              <a:t>Το κάθε όργανο ή βιολογικό σύστημα εκπληρώνει μια ξεχωριστή αποστολή κατά τη διαδικασία της αλληλεπίδρασης με το περιβάλλο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2209680"/>
            <a:ext cx="6705360" cy="0"/>
          </a:xfrm>
          <a:prstGeom prst="line">
            <a:avLst/>
          </a:prstGeom>
          <a:ln w="76320">
            <a:solidFill>
              <a:srgbClr val="002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Αλληλεξάρτηση μεταξύ δομής και λειτουργία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 Narrow"/>
              </a:rPr>
              <a:t>Η λειτουργία δημιουργεί το όργαν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 Narrow"/>
              </a:rPr>
              <a:t>Αρχή της άσκησης και της ανάπτυξης </a:t>
            </a:r>
            <a:r>
              <a:rPr b="0" lang="el-GR" sz="2800" spc="-1" strike="noStrike" u="sng">
                <a:solidFill>
                  <a:srgbClr val="ff0000"/>
                </a:solidFill>
                <a:uFillTx/>
                <a:latin typeface="Arial Narrow"/>
              </a:rPr>
              <a:t>(υπακούει στη γενικότερη αρχή της χρήσης του σώματος)</a:t>
            </a:r>
            <a:r>
              <a:rPr b="0" lang="el-GR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 Narrow"/>
              </a:rPr>
              <a:t>Διεγερσιμότητα, ικανότητα να απαντά στα ερεθίσματ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Arial Narrow"/>
              </a:rPr>
              <a:t>Πλαστικότητα, διαφορετική αντίδραση στα ίδια ερεθίσματ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1981080"/>
            <a:ext cx="6705360" cy="0"/>
          </a:xfrm>
          <a:prstGeom prst="line">
            <a:avLst/>
          </a:prstGeom>
          <a:ln w="76320">
            <a:solidFill>
              <a:srgbClr val="002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Υπεραναπλήρωση της ενέργειας </a:t>
            </a:r>
            <a:r>
              <a:rPr b="0" lang="el-GR" sz="4000" spc="-1" strike="noStrike">
                <a:solidFill>
                  <a:srgbClr val="0000ff"/>
                </a:solidFill>
                <a:latin typeface="Arial"/>
              </a:rPr>
              <a:t>(νόμος του Uhtomski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 Narrow"/>
              </a:rPr>
              <a:t>Η προσπάθεια προκαλεί κούραση, μετά από την ανανέωση των δυνάμεων εμφανίζεται ένα επιπλέον δυναμικ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 Narrow"/>
              </a:rPr>
              <a:t>Το επιπλέον δυναμικό δίνει νόημα στην άσκη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 Narrow"/>
              </a:rPr>
              <a:t>Η συστηματική διέγερση των οργανικών συστημάτων αποτελεί ανάγκη για την ανάπτυξή τους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0" lang="el-GR" sz="2800" spc="-1" strike="noStrike">
                <a:solidFill>
                  <a:srgbClr val="ff0000"/>
                </a:solidFill>
                <a:latin typeface="Arial Narrow"/>
              </a:rPr>
              <a:t>Η κούραση κάνει καλό στην υγεία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981080"/>
            <a:ext cx="7086600" cy="0"/>
          </a:xfrm>
          <a:prstGeom prst="line">
            <a:avLst/>
          </a:prstGeom>
          <a:ln w="76320">
            <a:solidFill>
              <a:srgbClr val="002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ff"/>
                </a:solidFill>
                <a:latin typeface="Arial"/>
              </a:rPr>
              <a:t>Υπεραναπλήρωση της </a:t>
            </a:r>
            <a:br>
              <a:rPr sz="4000"/>
            </a:br>
            <a:r>
              <a:rPr b="0" lang="el-GR" sz="4000" spc="-1" strike="noStrike">
                <a:solidFill>
                  <a:srgbClr val="0000ff"/>
                </a:solidFill>
                <a:latin typeface="Arial"/>
              </a:rPr>
              <a:t>ενέργειας </a:t>
            </a:r>
            <a:r>
              <a:rPr b="0" lang="el-GR" sz="3600" spc="-1" strike="noStrike">
                <a:solidFill>
                  <a:srgbClr val="0000ff"/>
                </a:solidFill>
                <a:latin typeface="Arial"/>
              </a:rPr>
              <a:t>(νόμος του Uhtomsk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1828800"/>
            <a:ext cx="4572000" cy="41148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3886200"/>
            <a:ext cx="457200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3276720"/>
            <a:ext cx="4572000" cy="2209680"/>
          </a:xfrm>
          <a:custGeom>
            <a:avLst/>
            <a:gdLst/>
            <a:ahLst/>
            <a:rect l="l" t="t" r="r" b="b"/>
            <a:pathLst>
              <a:path w="2880" h="1392">
                <a:moveTo>
                  <a:pt x="0" y="384"/>
                </a:moveTo>
                <a:cubicBezTo>
                  <a:pt x="292" y="888"/>
                  <a:pt x="584" y="1392"/>
                  <a:pt x="912" y="1392"/>
                </a:cubicBezTo>
                <a:cubicBezTo>
                  <a:pt x="1240" y="1392"/>
                  <a:pt x="1712" y="616"/>
                  <a:pt x="1968" y="384"/>
                </a:cubicBezTo>
                <a:cubicBezTo>
                  <a:pt x="2224" y="152"/>
                  <a:pt x="2296" y="0"/>
                  <a:pt x="2448" y="0"/>
                </a:cubicBezTo>
                <a:cubicBezTo>
                  <a:pt x="2600" y="0"/>
                  <a:pt x="2740" y="192"/>
                  <a:pt x="2880" y="384"/>
                </a:cubicBezTo>
              </a:path>
            </a:pathLst>
          </a:custGeom>
          <a:noFill/>
          <a:ln w="284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3126600">
            <a:off x="2218320" y="440892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Προσπάθεια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9440" y="5410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όπωση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5105520" y="4419720"/>
            <a:ext cx="457200" cy="30456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4952880" y="4571640"/>
            <a:ext cx="457200" cy="30492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800600" y="4723920"/>
            <a:ext cx="457200" cy="30492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648320" y="4876920"/>
            <a:ext cx="457200" cy="30456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495680" y="5028840"/>
            <a:ext cx="457200" cy="30492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257800" y="4266720"/>
            <a:ext cx="457200" cy="30492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0760" y="289548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Επιπλέον δυναμικό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8748800">
            <a:off x="3461400" y="412056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Ανανέωση δυνάμεων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47920" y="1690560"/>
            <a:ext cx="5181480" cy="4381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ff"/>
                </a:solidFill>
                <a:latin typeface="Arial"/>
              </a:rPr>
              <a:t>Υπεραναπλήρωση της ενέργειας </a:t>
            </a:r>
            <a:r>
              <a:rPr b="0" lang="el-GR" sz="3600" spc="-1" strike="noStrike">
                <a:solidFill>
                  <a:srgbClr val="0000ff"/>
                </a:solidFill>
                <a:latin typeface="Arial"/>
              </a:rPr>
              <a:t>κατά την αναπτυξιακή περίοδο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1981080"/>
            <a:ext cx="5715000" cy="3886200"/>
          </a:xfrm>
          <a:custGeom>
            <a:avLst/>
            <a:gdLst/>
            <a:ahLst/>
            <a:rect l="l" t="t" r="r" b="b"/>
            <a:pathLst>
              <a:path w="3600" h="2448">
                <a:moveTo>
                  <a:pt x="0" y="0"/>
                </a:moveTo>
                <a:lnTo>
                  <a:pt x="0" y="2448"/>
                </a:lnTo>
                <a:lnTo>
                  <a:pt x="3600" y="2448"/>
                </a:lnTo>
              </a:path>
            </a:pathLst>
          </a:custGeom>
          <a:noFill/>
          <a:ln w="38160">
            <a:solidFill>
              <a:srgbClr val="333333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4405320"/>
            <a:ext cx="685800" cy="1447920"/>
          </a:xfrm>
          <a:prstGeom prst="rect">
            <a:avLst/>
          </a:prstGeom>
          <a:solidFill>
            <a:srgbClr val="cc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3657600"/>
            <a:ext cx="685800" cy="2195640"/>
          </a:xfrm>
          <a:prstGeom prst="rect">
            <a:avLst/>
          </a:prstGeom>
          <a:solidFill>
            <a:srgbClr val="3399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4114800"/>
            <a:ext cx="685800" cy="1738440"/>
          </a:xfrm>
          <a:prstGeom prst="rect">
            <a:avLst/>
          </a:prstGeom>
          <a:solidFill>
            <a:srgbClr val="99cc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66880" y="4419720"/>
            <a:ext cx="6858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3657600"/>
            <a:ext cx="6858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00600" y="4114800"/>
            <a:ext cx="6858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4724280"/>
            <a:ext cx="5639040" cy="0"/>
          </a:xfrm>
          <a:prstGeom prst="line">
            <a:avLst/>
          </a:prstGeom>
          <a:ln w="3816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752480" y="2971800"/>
            <a:ext cx="571500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10960" y="586728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Χρόνο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846360" y="3875040"/>
            <a:ext cx="12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Ανάπτυξη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838840" y="1523880"/>
            <a:ext cx="2009880" cy="4394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752480" y="1981080"/>
            <a:ext cx="5715000" cy="3886200"/>
          </a:xfrm>
          <a:custGeom>
            <a:avLst/>
            <a:gdLst/>
            <a:ahLst/>
            <a:rect l="l" t="t" r="r" b="b"/>
            <a:pathLst>
              <a:path w="3600" h="2448">
                <a:moveTo>
                  <a:pt x="0" y="0"/>
                </a:moveTo>
                <a:lnTo>
                  <a:pt x="0" y="2448"/>
                </a:lnTo>
                <a:lnTo>
                  <a:pt x="3600" y="2448"/>
                </a:lnTo>
              </a:path>
            </a:pathLst>
          </a:custGeom>
          <a:noFill/>
          <a:ln w="38160">
            <a:solidFill>
              <a:srgbClr val="333333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3733920"/>
            <a:ext cx="685800" cy="2119320"/>
          </a:xfrm>
          <a:prstGeom prst="rect">
            <a:avLst/>
          </a:prstGeom>
          <a:solidFill>
            <a:srgbClr val="cc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4191120"/>
            <a:ext cx="685800" cy="1662120"/>
          </a:xfrm>
          <a:prstGeom prst="rect">
            <a:avLst/>
          </a:prstGeom>
          <a:solidFill>
            <a:srgbClr val="3399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24360" y="3886200"/>
            <a:ext cx="647640" cy="1967040"/>
          </a:xfrm>
          <a:prstGeom prst="rect">
            <a:avLst/>
          </a:prstGeom>
          <a:solidFill>
            <a:srgbClr val="99cc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3733920"/>
            <a:ext cx="6858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4191120"/>
            <a:ext cx="6858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3886200"/>
            <a:ext cx="6858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3886200"/>
            <a:ext cx="5639040" cy="0"/>
          </a:xfrm>
          <a:prstGeom prst="line">
            <a:avLst/>
          </a:prstGeom>
          <a:ln w="3816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3886200"/>
            <a:ext cx="563904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10960" y="586728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Χρόνο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846360" y="3875040"/>
            <a:ext cx="12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Ανάπτυξη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ff"/>
                </a:solidFill>
                <a:latin typeface="Arial"/>
              </a:rPr>
              <a:t>Υπεραναπλήρωση της ενέργειας </a:t>
            </a:r>
            <a:r>
              <a:rPr b="0" lang="el-GR" sz="3600" spc="-1" strike="noStrike">
                <a:solidFill>
                  <a:srgbClr val="0000ff"/>
                </a:solidFill>
                <a:latin typeface="Arial"/>
              </a:rPr>
              <a:t>κατά την περίοδο της ενηλικίωση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886200"/>
            <a:ext cx="5486400" cy="1447920"/>
          </a:xfrm>
          <a:prstGeom prst="line">
            <a:avLst/>
          </a:prstGeom>
          <a:ln w="57240">
            <a:solidFill>
              <a:srgbClr val="00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914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ff"/>
                </a:solidFill>
                <a:latin typeface="Arial"/>
              </a:rPr>
              <a:t>Νόμοι Φυσικής Αγωγής κοινωνικού χαρακτήρα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Από την εργασία στη συστηματική άσκηση για την εργασί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Νόμος της άμιλλας (συνεργασία και συναγωνισμός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Μίμηση ή συνταύτιση της συμπεριφορά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Σχετική ισορροπία ανάμεσα στην επικαιρότητα και την προοπτική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2286000"/>
            <a:ext cx="7010280" cy="0"/>
          </a:xfrm>
          <a:prstGeom prst="line">
            <a:avLst/>
          </a:prstGeom>
          <a:ln w="76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 Narrow"/>
              </a:rPr>
              <a:t>Από την εργασία στη συστηματική άσκηση για την εργασία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 Narrow"/>
              </a:rPr>
              <a:t>Η εργασία δημιούργησε τον άνθρωπο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 Narrow"/>
              </a:rPr>
              <a:t>Η άσκηση και τα αθλήματα κατάγονται από την ανθρώπινη εργασί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 Narrow"/>
              </a:rPr>
              <a:t>Η κίνηση, που γινόταν στα πλαίσια της εργασίας και με την εξέλιξη του πολιτισμού έπαυει να είναι χρήσιμη για την εργασία, περνούσε στη σφαίρα των αθλητικών δραστηριοτήτω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 Narrow"/>
              </a:rPr>
              <a:t>Η αύξηση της αποδοτικότητας του ανθρώπου εξαιτίας της άσκησης μεταφέρεται και στην εργασία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0" lang="el-GR" sz="2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0" lang="el-GR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i="1" lang="el-GR" sz="2400" spc="-1" strike="noStrike">
                <a:solidFill>
                  <a:srgbClr val="003300"/>
                </a:solidFill>
                <a:latin typeface="Arial Narrow"/>
              </a:rPr>
              <a:t>έτσι κλείνει ο κύκλος: </a:t>
            </a:r>
            <a:r>
              <a:rPr b="0" i="1" lang="el-GR" sz="2400" spc="-1" strike="noStrike">
                <a:solidFill>
                  <a:srgbClr val="800000"/>
                </a:solidFill>
                <a:latin typeface="Arial Narrow"/>
              </a:rPr>
              <a:t>Εργασία </a:t>
            </a:r>
            <a:r>
              <a:rPr b="0" i="1" lang="el-GR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i="1" lang="en-US" sz="24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i="1" lang="el-GR" sz="2400" spc="-1" strike="noStrike">
                <a:solidFill>
                  <a:srgbClr val="800000"/>
                </a:solidFill>
                <a:latin typeface="Arial Narrow"/>
              </a:rPr>
              <a:t>άσκηση</a:t>
            </a:r>
            <a:r>
              <a:rPr b="0" i="1" lang="en-US" sz="2400" spc="-1" strike="noStrike">
                <a:solidFill>
                  <a:srgbClr val="800000"/>
                </a:solidFill>
                <a:latin typeface="Arial Narrow"/>
              </a:rPr>
              <a:t>  </a:t>
            </a:r>
            <a:r>
              <a:rPr b="0" i="1" lang="el-GR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i="1" lang="el-GR" sz="2400" spc="-1" strike="noStrike">
                <a:solidFill>
                  <a:srgbClr val="800000"/>
                </a:solidFill>
                <a:latin typeface="Arial Narrow"/>
              </a:rPr>
              <a:t>  εργασί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828800"/>
            <a:ext cx="7010280" cy="0"/>
          </a:xfrm>
          <a:prstGeom prst="line">
            <a:avLst/>
          </a:prstGeom>
          <a:ln w="76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0000ff"/>
                </a:solidFill>
                <a:latin typeface="Arial"/>
              </a:rPr>
              <a:t>Νόμος της άμιλλας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7848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Ο αθλητικός αγώνας άποτελεί ιστορική εξέλιξη του πολεμικού αγών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Στον πολεμικό αγώνα επιδιώκεται η αμοιβαία εξόντωση των αντιπάλων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Στον αθλητικό αγώνα επιδιώκεται η αμοιβαία τελειοποίηση των αντιπάλων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3300"/>
                </a:solidFill>
                <a:latin typeface="Arial Narrow"/>
              </a:rPr>
              <a:t>Σεβασμός στον κανονισμό</a:t>
            </a: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l-GR" sz="3200" spc="-1" strike="noStrike">
                <a:solidFill>
                  <a:srgbClr val="ff0000"/>
                </a:solidFill>
                <a:latin typeface="ZapfDingbats"/>
                <a:ea typeface="ZapfDingbats"/>
              </a:rPr>
              <a:t></a:t>
            </a:r>
            <a:r>
              <a:rPr b="0" i="1" lang="el-GR" sz="2800" spc="-1" strike="noStrike">
                <a:solidFill>
                  <a:srgbClr val="003300"/>
                </a:solidFill>
                <a:latin typeface="Arial Narrow"/>
              </a:rPr>
              <a:t>Σεβασμός στον αντίπαλο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828800"/>
            <a:ext cx="7010640" cy="0"/>
          </a:xfrm>
          <a:prstGeom prst="line">
            <a:avLst/>
          </a:prstGeom>
          <a:ln w="76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θοριστικός παράγοντας για την εκπλήρωση της σύγχρονης αποστολής της Φυσικής Αγωγής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2057400"/>
            <a:ext cx="3047760" cy="1981080"/>
          </a:xfrm>
          <a:prstGeom prst="cloudCallout">
            <a:avLst>
              <a:gd name="adj1" fmla="val -40157"/>
              <a:gd name="adj2" fmla="val 799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2362320"/>
            <a:ext cx="3505320" cy="205740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0840 h 2057400"/>
              <a:gd name="textAreaBottom" fmla="*/ 1516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683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623"/>
                </a:lnTo>
                <a:arcTo wR="21600" hR="20153" stAng="-4471878" swAng="976834"/>
                <a:lnTo>
                  <a:pt x="18900" y="12412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075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412"/>
                </a:lnTo>
                <a:close/>
              </a:path>
              <a:path fill="none" w="21600" h="21600">
                <a:moveTo>
                  <a:pt x="8100" y="16075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075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623"/>
                </a:moveTo>
                <a:lnTo>
                  <a:pt x="5400" y="16557"/>
                </a:lnTo>
              </a:path>
              <a:path fill="none" w="21600" h="21600">
                <a:moveTo>
                  <a:pt x="16200" y="3623"/>
                </a:moveTo>
                <a:lnTo>
                  <a:pt x="16200" y="16557"/>
                </a:ln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49320" y="2819520"/>
            <a:ext cx="20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Τι  ωφελεί κα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τι βλάπτε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την ανάπτυξη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1981080"/>
            <a:ext cx="3352680" cy="3124440"/>
          </a:xfrm>
          <a:prstGeom prst="irregularSeal1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3960" y="2436840"/>
            <a:ext cx="18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Arial Narrow"/>
              </a:rPr>
              <a:t>Γνώση τω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Arial Narrow"/>
              </a:rPr>
              <a:t>νόμων της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Arial Narrow"/>
              </a:rPr>
              <a:t>ανάπτυξ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0000ff"/>
                </a:solidFill>
                <a:latin typeface="Arial"/>
              </a:rPr>
              <a:t>Νόμος του συναγωνισμού και του ανταγωνισμού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 Narrow"/>
              </a:rPr>
              <a:t>Αφορά τις ομαδικές αθλητικές δραστηριότητ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 Narrow"/>
              </a:rPr>
              <a:t>Συνεργασία με ανταγωνιστική σχέση μεταξύ των μελών της ομάδα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 Narrow"/>
              </a:rPr>
              <a:t>Συναγωνισμός μεταξύ των ομάδ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 Narrow"/>
              </a:rPr>
              <a:t>Ο αγώνας είναι διπολικής μορφής δραστηριότητα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800000"/>
                </a:solidFill>
                <a:latin typeface="Arial Narrow"/>
              </a:rPr>
              <a:t>(Άμυνα </a:t>
            </a:r>
            <a:r>
              <a:rPr b="0" i="1" lang="el-GR" sz="2800" spc="-1" strike="noStrike">
                <a:solidFill>
                  <a:srgbClr val="800000"/>
                </a:solidFill>
                <a:latin typeface="Wingdings"/>
                <a:ea typeface="Wingdings"/>
              </a:rPr>
              <a:t></a:t>
            </a:r>
            <a:r>
              <a:rPr b="0" i="1" lang="el-GR" sz="2800" spc="-1" strike="noStrike">
                <a:solidFill>
                  <a:srgbClr val="800000"/>
                </a:solidFill>
                <a:latin typeface="Arial Narrow"/>
              </a:rPr>
              <a:t> Επίθεση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981080"/>
            <a:ext cx="7010640" cy="0"/>
          </a:xfrm>
          <a:prstGeom prst="line">
            <a:avLst/>
          </a:prstGeom>
          <a:ln w="76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 u="sng">
                <a:solidFill>
                  <a:srgbClr val="0000ff"/>
                </a:solidFill>
                <a:uFillTx/>
                <a:latin typeface="Arial"/>
              </a:rPr>
              <a:t>Μίμηση</a:t>
            </a:r>
            <a:br>
              <a:rPr sz="4000"/>
            </a:br>
            <a:r>
              <a:rPr b="0" lang="el-GR" sz="4000" spc="-1" strike="noStrike">
                <a:solidFill>
                  <a:srgbClr val="0000ff"/>
                </a:solidFill>
                <a:latin typeface="Arial"/>
              </a:rPr>
              <a:t>συνταύτιση της συμπεριφοράς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19320" y="2590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 Narrow"/>
              </a:rPr>
              <a:t>Ο θεατής δεν είναι παθητικός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 Narrow"/>
              </a:rPr>
              <a:t>Ο θεατής ταυτίζεται με τον αθλητ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 Narrow"/>
              </a:rPr>
              <a:t>Ο αθλητής τείνει να ταυτιστεί με τον προπονητή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 Narrow"/>
              </a:rPr>
              <a:t>Ο θεατής επαναλαμβάνει τις κινήσεις νοερ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3300"/>
                </a:solidFill>
                <a:latin typeface="Arial Narrow"/>
              </a:rPr>
              <a:t>Ο αθλητής και ο δάσκαλος πρέπει να είναι σωστά πρότυπ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286000"/>
            <a:ext cx="6629400" cy="0"/>
          </a:xfrm>
          <a:prstGeom prst="line">
            <a:avLst/>
          </a:prstGeom>
          <a:ln w="76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ff"/>
                </a:solidFill>
                <a:latin typeface="Arial"/>
              </a:rPr>
              <a:t>Σχετική ισορροπία ανάμεσα στην επικαιρότητα και την προοπτική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Η αγωγή πρέπει να υπερεκπληρένει τις ανάγκες των καιρών </a:t>
            </a:r>
            <a:r>
              <a:rPr b="0" lang="el-GR" sz="2400" spc="-1" strike="noStrike">
                <a:solidFill>
                  <a:srgbClr val="ff0000"/>
                </a:solidFill>
                <a:latin typeface="Arial Narrow"/>
              </a:rPr>
              <a:t>(Vigotsk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Επιβάρυνση πάνω από τα εφικτά όρι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Μεγιστοποίηση του δυναμικού του κάθε ατόμ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 Narrow"/>
              </a:rPr>
              <a:t>Από τη Φυσική Αγωγή στη δια βίου άσκηση για την υγεί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2133720"/>
            <a:ext cx="7010640" cy="0"/>
          </a:xfrm>
          <a:prstGeom prst="line">
            <a:avLst/>
          </a:prstGeom>
          <a:ln w="76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Γιατί απαιτείται ταυτόχρονη τήρηση του νόμων βιολογικού και του κοινωνικού χαρακτήρα;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 Narrow"/>
              </a:rPr>
              <a:t>Η άσκηση πρέπει να επιδρά θετικά στη βιολογική και την κοινωνική διάσταση της ανθρώπινης ύπαρξης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 Narrow"/>
              </a:rPr>
              <a:t>Η άσκηση όταν επιδρά θετικά μόνο στη μια διάσταση της ανθρώπινης ύπαρξης τότε δεν πρέπει να βλάπτει την άλλη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1905120"/>
            <a:ext cx="7010640" cy="0"/>
          </a:xfrm>
          <a:prstGeom prst="line">
            <a:avLst/>
          </a:prstGeom>
          <a:ln w="76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572000" y="4419720"/>
            <a:ext cx="2057400" cy="1191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19920" y="4343400"/>
            <a:ext cx="1600200" cy="1325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981080" y="3962520"/>
            <a:ext cx="9302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4057560" cy="29862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Γιατί απαιτείται ταυτόχρονη τήρηση του νόμων βιολογικού και του κοινωνικού χαρακτήρα;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3048120"/>
            <a:ext cx="609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rial Narrow"/>
              </a:rPr>
              <a:t>Η άσκηση πρέπει να στηρίζεται στο σημείο ισορροπίας του βιολογικού και κοινωνικού κριτηρί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2438280"/>
            <a:ext cx="7010280" cy="0"/>
          </a:xfrm>
          <a:prstGeom prst="line">
            <a:avLst/>
          </a:prstGeom>
          <a:ln w="76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905120" y="3962520"/>
            <a:ext cx="5413320" cy="1447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Γιατί απαιτείται ταυτόχρονη τήρηση του νόμων βιολογικού και του κοινωνικού χαρακτήρα;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2133720"/>
            <a:ext cx="693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Το σημείο ισσοροπίας του βιολογικού και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κοινωνικού κριτηρίου ταυτίζεται με τ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συνταύτιση της φυσιολογικής και της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 Narrow"/>
              </a:rPr>
              <a:t>κοινωνικής (ανθρωπιστικής) ανάγκη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762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00"/>
                </a:solidFill>
                <a:latin typeface="Arial"/>
              </a:rPr>
              <a:t>Σκέψεις σημαντικών ανθρώπων που αποκαλύπτουν την αξία της γνώσης των νόμων της ανάπτυξης </a:t>
            </a: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(Michalowicz)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3428640"/>
            <a:ext cx="78483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 Narrow"/>
              </a:rPr>
              <a:t>Η ανάπτυξη αφορά τις αυξητικές διαδικασίες, που έχουν διαφορετικό τέμπο σε κάθε ηλικία και επηρεάζονται από το φύλο, το περιβάλλον, την κληρονομικότητα κά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 Narrow"/>
              </a:rPr>
              <a:t>Η γνώση των νόμων της ανάπτυξης μας προφυλάσσει από σοβαρά παιδαγωγικά σφάλματ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2286000"/>
            <a:ext cx="6705720" cy="9471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0" lang="el-GR" sz="2800" spc="-1" strike="noStrike">
                <a:solidFill>
                  <a:srgbClr val="ffff00"/>
                </a:solidFill>
                <a:latin typeface="Arial Narrow"/>
              </a:rPr>
              <a:t>Το παιδί μεγαλώνει. Η διαδικασία της ανάπτυξης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Arial Narrow"/>
              </a:rPr>
              <a:t>προχωρά στο χρόνο χωρίς να την βλέπουμε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95680" y="2209680"/>
            <a:ext cx="3124440" cy="131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«Δεν πάει μόνο ο εγκέφαλος του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παιδιού στο σχολείο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αλλά ολόκληρο το παιδί»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6094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7621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00"/>
                </a:solidFill>
                <a:latin typeface="Arial"/>
              </a:rPr>
              <a:t>Σκέψεις σημαντικών ανθρώπων που αποκαλύπτουν την αξία της γνώσης των νόμων της ανάπτυξης </a:t>
            </a: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(Kacpczak)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3657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Διαμαρτυρία για τη μονόπλευρη ανάπτυξη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Παρακίνηση των παιδαγωγών για να εξετάσουν τη σχέση ανάμεσα στην ακαδημαϊκή απόδοση και τη σωματική ανάπτυξη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0" name="brain" descr=""/>
          <p:cNvPicPr/>
          <p:nvPr/>
        </p:nvPicPr>
        <p:blipFill>
          <a:blip r:embed="rId1"/>
          <a:stretch/>
        </p:blipFill>
        <p:spPr>
          <a:xfrm>
            <a:off x="2819520" y="2144880"/>
            <a:ext cx="1600200" cy="1360440"/>
          </a:xfrm>
          <a:prstGeom prst="rect">
            <a:avLst/>
          </a:prstGeom>
          <a:ln w="0">
            <a:noFill/>
          </a:ln>
        </p:spPr>
      </p:pic>
      <p:pic>
        <p:nvPicPr>
          <p:cNvPr id="101" name="k1" descr=""/>
          <p:cNvPicPr/>
          <p:nvPr/>
        </p:nvPicPr>
        <p:blipFill>
          <a:blip r:embed="rId2"/>
          <a:stretch/>
        </p:blipFill>
        <p:spPr>
          <a:xfrm>
            <a:off x="838080" y="20574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312640" y="24382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33333"/>
                </a:solidFill>
                <a:latin typeface="Arial Black"/>
              </a:rPr>
              <a:t>=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76440" y="2514600"/>
            <a:ext cx="152640" cy="60948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 rot="16237200">
            <a:off x="4303440" y="2706120"/>
            <a:ext cx="2667240" cy="3044880"/>
          </a:xfrm>
          <a:custGeom>
            <a:avLst/>
            <a:gdLst>
              <a:gd name="textAreaLeft" fmla="*/ 537840 w 2667240"/>
              <a:gd name="textAreaRight" fmla="*/ 2129400 w 2667240"/>
              <a:gd name="textAreaTop" fmla="*/ 614160 h 3044880"/>
              <a:gd name="textAreaBottom" fmla="*/ 2430720 h 304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908" y="21600"/>
                </a:lnTo>
                <a:lnTo>
                  <a:pt x="4692" y="21600"/>
                </a:lnTo>
                <a:close/>
              </a:path>
            </a:pathLst>
          </a:custGeom>
          <a:solidFill>
            <a:srgbClr val="ffcc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114800" y="2895480"/>
          <a:ext cx="23479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895480"/>
                    <a:ext cx="23479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7162920" y="3505320"/>
          <a:ext cx="111420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3505320"/>
                    <a:ext cx="11142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00"/>
                </a:solidFill>
                <a:latin typeface="Arial"/>
              </a:rPr>
              <a:t>Σκέψεις σημαντικών ανθρώπων που αποκαλύπτουν την αξία της γνώσης των νόμων της ανάπτυξης </a:t>
            </a: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(Komenski, Rousseau, Frobel)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3124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 Narrow"/>
              </a:rPr>
              <a:t>Ανάμεσα στο παιδί και τον ενήλικα δεν υπάρχουν μόνο ποσοτικές διαφορέ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 Narrow"/>
              </a:rPr>
              <a:t>Το παιδί αποτελεί ξεχωριστή οντότητα που διαφέρει ποιοτικά από τον ενήλικ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4320" y="2133720"/>
            <a:ext cx="7025040" cy="5205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Arial"/>
              </a:rPr>
              <a:t>«Το παιδί δεν είναι μινιατούρα του ενήλικα»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Τι οδήγησε στη γέννηση της θεωρίας της Φυσικής Αγωγής;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114800"/>
            <a:ext cx="61722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Η συνειδητοποίηση ότι η σωματική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και κινητική ανάπτυξη ακολουθεί συγκεκριμένους νόμ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260960" y="1905120"/>
            <a:ext cx="1154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000000"/>
                </a:solidFill>
                <a:latin typeface="Arial"/>
              </a:rPr>
              <a:t>Τί σημαίνει Νόμος;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3975120"/>
            <a:ext cx="6068880" cy="173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 Narrow"/>
              </a:rPr>
              <a:t>Νόμος είναι η σταθερή σχέση ανάμεσα σε ένα φαινόμενο και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 Narrow"/>
              </a:rPr>
              <a:t>στην αιτία που το προκαλεί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090880" y="1752480"/>
            <a:ext cx="49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9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Πώς μεταφέρεται η έννοια του Νόμου στη Φυσική Αγωγή;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4253040"/>
            <a:ext cx="6400800" cy="1407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Arial Narrow"/>
              </a:rPr>
              <a:t>Νόμοι της Φυσικής Αγωγής είναι το σύνολ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l-GR" sz="2800" spc="-1" strike="noStrike">
                <a:solidFill>
                  <a:srgbClr val="ffff00"/>
                </a:solidFill>
                <a:latin typeface="Arial Narrow"/>
              </a:rPr>
              <a:t>των σταθερών σχέσεων που διαμορφώνονται ανάμεσα στην ανάπτυξη και το περιβάλλο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103640" cy="152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55720" y="2871720"/>
            <a:ext cx="173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Ανάπτυξ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21720" y="289548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Περιβάλλο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4T16:46:55Z</dcterms:created>
  <dc:creator>Hatziharistos</dc:creator>
  <dc:description/>
  <dc:language>en-US</dc:language>
  <cp:lastModifiedBy>Hatzi</cp:lastModifiedBy>
  <dcterms:modified xsi:type="dcterms:W3CDTF">2000-03-28T17:39:08Z</dcterms:modified>
  <cp:revision>90</cp:revision>
  <dc:subject/>
  <dc:title>Νόμοι της Φυσικής Αγωγής  Θεωρία της Φυσικής Αγωγής</dc:title>
</cp:coreProperties>
</file>