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0D2-3664-48BE-B582-38482CC7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ADE-A17D-41EB-8BD6-89B2084F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FD2-9578-4BBE-BD5F-93238DDB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EC0-0947-4FC3-BEFA-5A72DE46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0266-19F2-4C1E-B1A9-6BE3A05D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1795-4F07-4206-80F5-B494EC8D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7207-ECDF-4C0F-B509-6BEF45B2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7FCE-2EA7-49FB-A0EB-5FDC5EA7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C8F7-CAC1-4B7D-AA8B-5A378CE2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FDAC-D3EB-4D46-BE1E-6ED4E6AE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77D8-32A9-41AE-A40F-9D0E9527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08F-DEAD-4C4A-A674-821F2FC1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CFC9-04DF-4AA6-A9F5-B09122FB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36C0-E582-4999-8B1C-6087971D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8407-794E-42CD-898C-FBC77B97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0074-E51C-4A7C-B4B0-BEC907AE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3FA8-0370-4A2B-956C-D8A3B8E3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C96-9C6B-4390-8BC2-A63EA952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7B1-F618-4E81-8D5D-529F29DB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F43-DEAE-4212-A299-7AE0E103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7E2-F8D6-4B3F-8DCB-C0259A0B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A51-2EAB-4032-9EE8-91E84179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A01-33AF-4DF3-AFB0-DC5F0DD5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D1B-EA22-43A8-AF73-61A1AA5C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59F2-5A03-4501-A6D9-29FA8729F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58B7-A514-4C10-B351-455177CC2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889360" y="2997360"/>
          <a:ext cx="3238560" cy="30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2997360"/>
                    <a:ext cx="3238560" cy="30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67608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66ff33"/>
                </a:solidFill>
                <a:latin typeface="Arial"/>
              </a:rPr>
              <a:t>Στάση του σώματος </a:t>
            </a:r>
            <a:br>
              <a:rPr sz="5400"/>
            </a:br>
            <a:r>
              <a:rPr b="0" lang="el-GR" sz="5400" spc="-1" strike="noStrike">
                <a:solidFill>
                  <a:srgbClr val="66ff33"/>
                </a:solidFill>
                <a:latin typeface="Arial"/>
              </a:rPr>
              <a:t>και μορφή των κυριότερων μελών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Παρατήρηση της μπροστινής και της πίσω επιφάνειας του σώματος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3" name="sxima21" descr=""/>
          <p:cNvPicPr/>
          <p:nvPr/>
        </p:nvPicPr>
        <p:blipFill>
          <a:blip r:embed="rId1"/>
          <a:stretch/>
        </p:blipFill>
        <p:spPr>
          <a:xfrm>
            <a:off x="987480" y="2171880"/>
            <a:ext cx="2663640" cy="4468680"/>
          </a:xfrm>
          <a:prstGeom prst="rect">
            <a:avLst/>
          </a:prstGeom>
          <a:ln w="0">
            <a:noFill/>
          </a:ln>
        </p:spPr>
      </p:pic>
      <p:pic>
        <p:nvPicPr>
          <p:cNvPr id="124" name="sxima22" descr=""/>
          <p:cNvPicPr/>
          <p:nvPr/>
        </p:nvPicPr>
        <p:blipFill>
          <a:blip r:embed="rId2"/>
          <a:stretch/>
        </p:blipFill>
        <p:spPr>
          <a:xfrm>
            <a:off x="4951440" y="2179800"/>
            <a:ext cx="267984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Συμπληρωματική εξέταση των πλάγιων παρεκκλίσεων της σπονδυλικής στήλης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sxima3" descr=""/>
          <p:cNvPicPr/>
          <p:nvPr/>
        </p:nvPicPr>
        <p:blipFill>
          <a:blip r:embed="rId1"/>
          <a:stretch/>
        </p:blipFill>
        <p:spPr>
          <a:xfrm>
            <a:off x="1028880" y="2622600"/>
            <a:ext cx="70038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8680" y="240840"/>
            <a:ext cx="5867640" cy="142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Παρατήρηση του σώματος από πλάγια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sxima1" descr=""/>
          <p:cNvPicPr/>
          <p:nvPr/>
        </p:nvPicPr>
        <p:blipFill>
          <a:blip r:embed="rId1"/>
          <a:stretch/>
        </p:blipFill>
        <p:spPr>
          <a:xfrm>
            <a:off x="6505560" y="101520"/>
            <a:ext cx="2176560" cy="6693120"/>
          </a:xfrm>
          <a:prstGeom prst="rect">
            <a:avLst/>
          </a:prstGeom>
          <a:ln w="0">
            <a:noFill/>
          </a:ln>
        </p:spPr>
      </p:pic>
      <p:pic>
        <p:nvPicPr>
          <p:cNvPr id="129" name="sxima13" descr=""/>
          <p:cNvPicPr/>
          <p:nvPr/>
        </p:nvPicPr>
        <p:blipFill>
          <a:blip r:embed="rId2"/>
          <a:stretch/>
        </p:blipFill>
        <p:spPr>
          <a:xfrm>
            <a:off x="304920" y="1969920"/>
            <a:ext cx="221112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Παρατήρηση του σώματος από πλάγια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sxima9" descr=""/>
          <p:cNvPicPr/>
          <p:nvPr/>
        </p:nvPicPr>
        <p:blipFill>
          <a:blip r:embed="rId1"/>
          <a:stretch/>
        </p:blipFill>
        <p:spPr>
          <a:xfrm>
            <a:off x="4986360" y="2127240"/>
            <a:ext cx="3927600" cy="4267080"/>
          </a:xfrm>
          <a:prstGeom prst="rect">
            <a:avLst/>
          </a:prstGeom>
          <a:ln w="0">
            <a:noFill/>
          </a:ln>
        </p:spPr>
      </p:pic>
      <p:pic>
        <p:nvPicPr>
          <p:cNvPr id="132" name="sxima13" descr=""/>
          <p:cNvPicPr/>
          <p:nvPr/>
        </p:nvPicPr>
        <p:blipFill>
          <a:blip r:embed="rId2"/>
          <a:stretch/>
        </p:blipFill>
        <p:spPr>
          <a:xfrm>
            <a:off x="380880" y="2211480"/>
            <a:ext cx="20401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Παρατήρηση της μορφής των κάτω άκρω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sxima12%20" descr=""/>
          <p:cNvPicPr/>
          <p:nvPr/>
        </p:nvPicPr>
        <p:blipFill>
          <a:blip r:embed="rId1"/>
          <a:stretch/>
        </p:blipFill>
        <p:spPr>
          <a:xfrm>
            <a:off x="1206360" y="2276640"/>
            <a:ext cx="665352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cc66"/>
                </a:solidFill>
                <a:latin typeface="Arial"/>
              </a:rPr>
              <a:t>Διαδικασία πελματογράφηση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6" name="sxima5" descr=""/>
          <p:cNvPicPr/>
          <p:nvPr/>
        </p:nvPicPr>
        <p:blipFill>
          <a:blip r:embed="rId1"/>
          <a:stretch/>
        </p:blipFill>
        <p:spPr>
          <a:xfrm>
            <a:off x="2333520" y="2593800"/>
            <a:ext cx="40068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cc66"/>
                </a:solidFill>
                <a:latin typeface="Arial"/>
              </a:rPr>
              <a:t>Τύποι πελματογράμματος </a:t>
            </a:r>
            <a:br>
              <a:rPr sz="4000"/>
            </a:br>
            <a:r>
              <a:rPr b="0" lang="el-GR" sz="4000" spc="-1" strike="noStrike">
                <a:solidFill>
                  <a:srgbClr val="ffcc66"/>
                </a:solidFill>
                <a:latin typeface="Arial"/>
              </a:rPr>
              <a:t>του 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Bunak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sxima6" descr=""/>
          <p:cNvPicPr/>
          <p:nvPr/>
        </p:nvPicPr>
        <p:blipFill>
          <a:blip r:embed="rId1"/>
          <a:stretch/>
        </p:blipFill>
        <p:spPr>
          <a:xfrm>
            <a:off x="1465200" y="1743120"/>
            <a:ext cx="5705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cc66"/>
                </a:solidFill>
                <a:latin typeface="Arial"/>
              </a:rPr>
              <a:t>Τύποι πελματογράμματος </a:t>
            </a:r>
            <a:br>
              <a:rPr sz="4000"/>
            </a:br>
            <a:r>
              <a:rPr b="0" lang="el-GR" sz="4000" spc="-1" strike="noStrike">
                <a:solidFill>
                  <a:srgbClr val="ffcc66"/>
                </a:solidFill>
                <a:latin typeface="Arial"/>
              </a:rPr>
              <a:t>το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Weisflo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0" name="sxima7" descr=""/>
          <p:cNvPicPr/>
          <p:nvPr/>
        </p:nvPicPr>
        <p:blipFill>
          <a:blip r:embed="rId1"/>
          <a:stretch/>
        </p:blipFill>
        <p:spPr>
          <a:xfrm>
            <a:off x="1739880" y="1608120"/>
            <a:ext cx="55864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Παιδαγωγική αξία της εξέτασης και αξιολόγησης της στάσης του σώματος και της μορφής των κυριότερων μελών του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0240" y="308592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Πρόληψ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Σωστή ερμηνεία της απόδοσης και της συμπεριφορά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Αποφυγή εκδήλωσης αντιπαιδαγωγικής συμπεριφορά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4720" y="2502000"/>
            <a:ext cx="770904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3440" y="968400"/>
            <a:ext cx="7782120" cy="13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"/>
              </a:rPr>
              <a:t>Στάση και κατασκευή του σώματος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3320" y="2760840"/>
            <a:ext cx="7772400" cy="26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Η στάση και η κατασκευή απεικονίζουν τη θέση του σώματος στο χώρ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Η κατασκευή έχει σχέση με τη δομή (σχήμα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Η στάση αποτελεί έκφραση του συνηθισμένου τρόπου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τοποθέτησης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των διαδοχικών μερών ως προς τον κατακόρυφο άξον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Κράτημα των μερών του σώματος σε διαφορετικές θέσεις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(Williams &amp; Worthingham 1967)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363680" y="1292400"/>
          <a:ext cx="643896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1292400"/>
                    <a:ext cx="643896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sxima144" descr=""/>
          <p:cNvPicPr/>
          <p:nvPr/>
        </p:nvPicPr>
        <p:blipFill>
          <a:blip r:embed="rId3"/>
          <a:stretch/>
        </p:blipFill>
        <p:spPr>
          <a:xfrm>
            <a:off x="1517760" y="2170080"/>
            <a:ext cx="1385640" cy="3598920"/>
          </a:xfrm>
          <a:prstGeom prst="rect">
            <a:avLst/>
          </a:prstGeom>
          <a:ln w="0">
            <a:noFill/>
          </a:ln>
        </p:spPr>
      </p:pic>
      <p:pic>
        <p:nvPicPr>
          <p:cNvPr id="97" name="sxima141" descr=""/>
          <p:cNvPicPr/>
          <p:nvPr/>
        </p:nvPicPr>
        <p:blipFill>
          <a:blip r:embed="rId4"/>
          <a:stretch/>
        </p:blipFill>
        <p:spPr>
          <a:xfrm>
            <a:off x="4386240" y="2170080"/>
            <a:ext cx="1674720" cy="3598920"/>
          </a:xfrm>
          <a:prstGeom prst="rect">
            <a:avLst/>
          </a:prstGeom>
          <a:ln w="0">
            <a:noFill/>
          </a:ln>
        </p:spPr>
      </p:pic>
      <p:pic>
        <p:nvPicPr>
          <p:cNvPr id="98" name="sxima143" descr=""/>
          <p:cNvPicPr/>
          <p:nvPr/>
        </p:nvPicPr>
        <p:blipFill>
          <a:blip r:embed="rId5"/>
          <a:stretch/>
        </p:blipFill>
        <p:spPr>
          <a:xfrm>
            <a:off x="6054840" y="2170080"/>
            <a:ext cx="1484280" cy="3598920"/>
          </a:xfrm>
          <a:prstGeom prst="rect">
            <a:avLst/>
          </a:prstGeom>
          <a:ln w="0">
            <a:noFill/>
          </a:ln>
        </p:spPr>
      </p:pic>
      <p:pic>
        <p:nvPicPr>
          <p:cNvPr id="99" name="sxima142" descr=""/>
          <p:cNvPicPr/>
          <p:nvPr/>
        </p:nvPicPr>
        <p:blipFill>
          <a:blip r:embed="rId6"/>
          <a:stretch/>
        </p:blipFill>
        <p:spPr>
          <a:xfrm>
            <a:off x="2905200" y="2170080"/>
            <a:ext cx="14922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590400"/>
            <a:ext cx="7855200" cy="16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Παράγοντες που επηρεάζουν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τη στάση του σώματος και τη μορφή των κυριότερων μελώ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2040" y="2962440"/>
            <a:ext cx="7712280" cy="29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Κληρονομικότητ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Μυϊκός τόνο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Καθημερινές ασχολίε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Περιβάλλον (σχολικό περιβάλλον π.χ. σχολικά έπιπλα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Άσκη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2440" y="2552760"/>
            <a:ext cx="788652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2440" y="428400"/>
            <a:ext cx="8108640" cy="112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Ορισμοί</a:t>
            </a:r>
            <a:br>
              <a:rPr sz="4800"/>
            </a:b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σχόλια και παρατηρήσεις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3760" y="2187360"/>
            <a:ext cx="7791480" cy="36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στάση του σώματος είναι έκφραση του βαθμού ετοιμότητας του στηρικτικο-κινητικού συστήματος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(Grochmal 195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στάση του σώματος και η μορφή των κυριότερων μελών αποτελούν κυρίαρχα χαρακτηριστικά της προσωπικότητα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 στάση του σώματος αποτελεί ξεχωριστεί έκφραση της ανάπτυξη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788688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6600" y="49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"/>
              </a:rPr>
              <a:t>Αξία της σωστής στάσης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Ευνοεί τη λειτουργία των εσωτερικών οργάν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Ευνοεί τη μετάβαση από την αδράνεια στη δράση, από την ακινησία στην κίνη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Ευνοεί τη δυναμική της σωματικής και κινητικής ανάπτυξ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2440" y="2095560"/>
            <a:ext cx="788652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19200"/>
            <a:ext cx="777564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Γιατί πρέπει να προηγείται η εξέταση της στάσης του σώματος;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2440" y="2997360"/>
            <a:ext cx="7981920" cy="28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Η στάση του σώματος επηρεάζει τη δυναμική της σωματικής και κινητικής ανάπτυξ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Η στάση του σώματος επηρεάζει τη έκφραση του διαθέσιμου δυναμικού των οργάν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2440" y="2552760"/>
            <a:ext cx="788652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080" y="698400"/>
            <a:ext cx="785484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Γιατί δεν υπάρχει ενιαία μέθοδος εξέτασης της στάσης του σώματος;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3760" y="2695320"/>
            <a:ext cx="7759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Στην πορεία της οντογένεσης υπόκειται σε συνεχείς αλλαγές και προσαρμογέ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Δεν έχει καθοριστεί ενιαίο κριτήρι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Τα γνωρίσματα που συνθέτουν τη στάση του σώματος είναι εξατομικευμέν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" y="2629080"/>
            <a:ext cx="788688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200" y="800280"/>
            <a:ext cx="7937640" cy="13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Μέθοδος εξέτασης της στάσης του σώματος και της μορφής των κυριότερων μελών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1120" y="3041640"/>
            <a:ext cx="6415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Προσεκτική και επιμελημένη παρατήρηση το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σώματος και των κυριότερων μελ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3760" y="2395440"/>
            <a:ext cx="3314880" cy="5799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ffffff"/>
                </a:solidFill>
                <a:uFillTx/>
                <a:latin typeface="Arial"/>
              </a:rPr>
              <a:t>Σωματοσκόπησ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301840" y="3849840"/>
          <a:ext cx="1644840" cy="17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1840" y="3849840"/>
                    <a:ext cx="1644840" cy="17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691080" y="3951360"/>
          <a:ext cx="2946240" cy="16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3951360"/>
                    <a:ext cx="294624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7T20:07:50Z</dcterms:created>
  <dc:creator>DIMITRIS</dc:creator>
  <dc:description/>
  <dc:language>en-US</dc:language>
  <cp:lastModifiedBy>Hatzi</cp:lastModifiedBy>
  <dcterms:modified xsi:type="dcterms:W3CDTF">2001-11-13T13:47:53Z</dcterms:modified>
  <cp:revision>16</cp:revision>
  <dc:subject/>
  <dc:title>Στάση του σώματος  και μορφή των κυριότεων μελών</dc:title>
</cp:coreProperties>
</file>