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34FE-B44A-4162-835C-5B772C4A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BB71-04D7-4553-A9E5-E3960308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C80E-6CBB-4C14-9B5A-80D4B299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8534-FC93-4F86-BBE1-BDAFC17F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ABC-2FEC-495E-AF53-9979D195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9DF-F4B7-4E7C-BA0E-DF058EA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26FA-E330-484B-AE9E-4E61C92A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B3D-57B5-4270-AE3B-1746750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8088-9ADE-4269-BAEE-3B4CAC3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404A-F2DA-4DC3-99E1-115F2BB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C36-1BF7-4FC7-B093-3070B39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C3AB-4BBE-48F0-93FE-A91EE87B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023-063E-4412-AA27-5B15AA4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B72-06A3-41FF-A00A-243B399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0A8-C567-4260-87BC-F60F682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0FC-1693-4736-86A0-9E442FF0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F314-B88A-494F-ACE5-56A1C01F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B5EE-CF4B-4DCC-BBA5-FE36AAA8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CFB2-6056-4B53-B2E0-7EB85C2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F003-8DE6-4C3D-929D-9E684EAC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BEA0-0AD0-4BCC-9C21-15362A2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9BEE-90B2-4128-8CE7-4649CF4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ADEE-63F7-405A-BC28-1BED81E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1CCC-2FF1-4817-8F6A-028A921F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754000" y="6362280"/>
            <a:ext cx="39085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81680" y="6362280"/>
            <a:ext cx="19051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Διαφάνεια: </a:t>
            </a:r>
            <a:fld id="{56083B73-18B5-4AF6-9FAD-4196C74A1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9280" y="6324480"/>
            <a:ext cx="190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dt" idx="3"/>
          </p:nvPr>
        </p:nvSpPr>
        <p:spPr>
          <a:xfrm>
            <a:off x="228240" y="6362280"/>
            <a:ext cx="198108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CDE-308D-4661-ACFE-9F67A6030969}" type="datetime3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30 Ιουλίου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5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228240" y="6324120"/>
            <a:ext cx="198108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1C3-4CB4-4D70-A4B1-739C42A39118}" type="datetime3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30 Ιουλίου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2819520" y="6400440"/>
            <a:ext cx="39081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F0A-119F-4FFB-AE90-EC48BD80D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5562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700" spc="-1" strike="noStrike">
                <a:solidFill>
                  <a:srgbClr val="66ff33"/>
                </a:solidFill>
                <a:latin typeface="Arial Narrow"/>
              </a:rPr>
              <a:t>Σκοπός</a:t>
            </a:r>
            <a:br>
              <a:rPr sz="11700"/>
            </a:br>
            <a:r>
              <a:rPr b="1" lang="el-GR" sz="11700" spc="-1" strike="noStrike">
                <a:solidFill>
                  <a:srgbClr val="66ff33"/>
                </a:solidFill>
                <a:latin typeface="Arial Narrow"/>
              </a:rPr>
              <a:t>Φυσικής</a:t>
            </a:r>
            <a:br>
              <a:rPr sz="11700"/>
            </a:br>
            <a:r>
              <a:rPr b="1" lang="el-GR" sz="11700" spc="-1" strike="noStrike">
                <a:solidFill>
                  <a:srgbClr val="66ff33"/>
                </a:solidFill>
                <a:latin typeface="Arial Narrow"/>
              </a:rPr>
              <a:t>Αγωγής</a:t>
            </a:r>
            <a:endParaRPr b="0" lang="en-US" sz="1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C251-02A5-48F7-BBD6-C252B62B851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A7935F-7561-4C2A-A4D9-9CA1AB8D2C34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211140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1629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66ff33"/>
                </a:solidFill>
                <a:latin typeface="Arial Narrow"/>
              </a:rPr>
              <a:t>Ο σύγχρονος πολιτισμός είναι περισ- σότερο πολιτισμός των μέσων παρά πολιτισμός των σκοπών και των αξιών </a:t>
            </a:r>
            <a:r>
              <a:rPr b="0" lang="el-GR" sz="2400" spc="-1" strike="noStrike">
                <a:solidFill>
                  <a:srgbClr val="66ff33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Haxley)</a:t>
            </a:r>
            <a:r>
              <a:rPr b="0" lang="el-GR" sz="40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BA52-C137-4AB4-90C1-B5982E3FEC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06615A-31BB-496B-947A-DA326D6D80A8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1417680" cy="3098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0600" y="1066320"/>
            <a:ext cx="8448480" cy="2667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ff00"/>
                </a:solidFill>
                <a:latin typeface="Arial Narrow"/>
              </a:rPr>
              <a:t>Οι κοινωνικές διεργασίες υποκαθίστανται από μηχανισμούς προσανατολισμένους στο αποτέλεσμα και όχι στο σκοπό και στις αξίες </a:t>
            </a:r>
            <a:r>
              <a:rPr b="0" lang="el-GR" sz="2400" spc="-1" strike="noStrike">
                <a:solidFill>
                  <a:srgbClr val="00ff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Arial Narrow"/>
              </a:rPr>
              <a:t>Suchodolski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E563-01FD-4EE1-98A4-894FB14D26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3D911-4296-45DA-AFD3-7AD031FCB6D1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154320" cy="4708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87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Arial Narrow"/>
              </a:rPr>
              <a:t>«Η ίδια η ζωή γίνεται μέσο και όχι σκοπός»</a:t>
            </a:r>
            <a:br>
              <a:rPr sz="4000"/>
            </a:br>
            <a:r>
              <a:rPr b="1" lang="el-GR" sz="1800" spc="-1" strike="noStrike">
                <a:solidFill>
                  <a:srgbClr val="ffff00"/>
                </a:solidFill>
                <a:latin typeface="Arial Narrow"/>
              </a:rPr>
              <a:t>(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Marx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ff00"/>
                </a:solidFill>
                <a:latin typeface="Arial"/>
              </a:rPr>
              <a:t>Οι νόμοι της αγοράς κατακυριεύουν και τον τρόπο ζωή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ff00"/>
                </a:solidFill>
                <a:latin typeface="Arial"/>
              </a:rPr>
              <a:t>Η εμπορευματοποίηση βασικών υπηρεσιών στερεί τους ανθρώπους από αρκετές χαρές της ζωή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1CB6-5FF7-465C-8918-29B3D13E9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648D8-1F36-4D3F-AE62-D2C7A752F9A6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Arial Narrow"/>
              </a:rPr>
              <a:t>Ιεραρχημένο σύστημα σκοπών Φυσικής Αγωγή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1295280"/>
            <a:ext cx="7010280" cy="4952880"/>
            <a:chOff x="1143000" y="1295280"/>
            <a:chExt cx="7010280" cy="4952880"/>
          </a:xfrm>
        </p:grpSpPr>
        <p:sp>
          <p:nvSpPr>
            <p:cNvPr id="122" name=""/>
            <p:cNvSpPr/>
            <p:nvPr/>
          </p:nvSpPr>
          <p:spPr>
            <a:xfrm>
              <a:off x="3276720" y="20095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043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299088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6720" y="39621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46479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53337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6400" y="30002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6400" y="39621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6400" y="46479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53337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143000" y="1295280"/>
              <a:ext cx="7010280" cy="4952880"/>
              <a:chOff x="1143000" y="1295280"/>
              <a:chExt cx="7010280" cy="4952880"/>
            </a:xfrm>
          </p:grpSpPr>
          <p:sp>
            <p:nvSpPr>
              <p:cNvPr id="133" name=""/>
              <p:cNvSpPr/>
              <p:nvPr/>
            </p:nvSpPr>
            <p:spPr>
              <a:xfrm>
                <a:off x="1828800" y="1523880"/>
                <a:ext cx="5554800" cy="4597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ffff00"/>
                    </a:solidFill>
                    <a:latin typeface="Arial"/>
                  </a:rPr>
                  <a:t>Ιδανικό της αγωγή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28800" y="2328840"/>
                <a:ext cx="555480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ffff00"/>
                    </a:solidFill>
                    <a:latin typeface="Arial"/>
                  </a:rPr>
                  <a:t>Πρωταρχικός σκοπός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ffff00"/>
                    </a:solidFill>
                    <a:latin typeface="Arial"/>
                  </a:rPr>
                  <a:t>Τελικός σκοπός (συστηματική άσκηση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6720" y="4267080"/>
                <a:ext cx="5554800" cy="3682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ffff00"/>
                    </a:solidFill>
                    <a:latin typeface="Arial Narrow"/>
                  </a:rPr>
                  <a:t>Διδακτικοί σκοποί (Διδασκαλία γνώσεων, δεξιοτήτων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28800" y="4952880"/>
                <a:ext cx="5570640" cy="3682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ffff00"/>
                    </a:solidFill>
                    <a:latin typeface="Arial Narrow"/>
                  </a:rPr>
                  <a:t>Αναπτυξιακοί σκοποί (Σύγκριση αποτελεσμάτων με όρια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36720" y="5638680"/>
                <a:ext cx="5554800" cy="398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ffff00"/>
                    </a:solidFill>
                    <a:latin typeface="Arial"/>
                  </a:rPr>
                  <a:t>Τρέχοντες στόχοι (Ημερήσιο πρόγραμμα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28800" y="3309840"/>
                <a:ext cx="555480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ffff00"/>
                    </a:solidFill>
                    <a:latin typeface="Arial"/>
                  </a:rPr>
                  <a:t>Κατευθυντήριος σκοπός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ffff00"/>
                    </a:solidFill>
                    <a:latin typeface="Arial"/>
                  </a:rPr>
                  <a:t>Παιδαγωγικός σκοπός (Θετική στάση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43000" y="1295280"/>
                <a:ext cx="7010280" cy="49528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00000">
                <a:off x="-330120" y="3654720"/>
                <a:ext cx="3565440" cy="3682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ff"/>
                    </a:solidFill>
                    <a:latin typeface="Arial Narrow"/>
                  </a:rPr>
                  <a:t>Πληροφορία που οργανώνει το σύστημα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47920" y="5653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40" y="144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7920" y="178092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602400" y="3574080"/>
                <a:ext cx="2367000" cy="398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ffffff"/>
                    </a:solidFill>
                    <a:latin typeface="Arial"/>
                  </a:rPr>
                  <a:t>Ανατροφοδότηση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91520" y="1752480"/>
                <a:ext cx="457200" cy="838080"/>
              </a:xfrm>
              <a:custGeom>
                <a:avLst/>
                <a:gdLst/>
                <a:ahLst/>
                <a:rect l="l" t="t" r="r" b="b"/>
                <a:pathLst>
                  <a:path w="288" h="144">
                    <a:moveTo>
                      <a:pt x="288" y="144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91520" y="4952880"/>
                <a:ext cx="457200" cy="914400"/>
              </a:xfrm>
              <a:custGeom>
                <a:avLst/>
                <a:gdLst/>
                <a:ahLst/>
                <a:rect l="l" t="t" r="r" b="b"/>
                <a:pathLst>
                  <a:path w="288" h="192">
                    <a:moveTo>
                      <a:pt x="288" y="0"/>
                    </a:moveTo>
                    <a:lnTo>
                      <a:pt x="288" y="192"/>
                    </a:lnTo>
                    <a:lnTo>
                      <a:pt x="0" y="192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E3D3-8B00-43F8-AC39-B163406515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1CD8A-368B-4CCF-9A5F-D915F11C3941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2184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66ff33"/>
                </a:solidFill>
                <a:latin typeface="Arial Narrow"/>
              </a:rPr>
              <a:t>Η απλούστερη διατύπωση του σκοπού της Φυσικής Αγωγής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574720"/>
            <a:ext cx="81532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Θετική στάση απέναντι στην άσκη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Γνώση της κατάλληλης άσκησης για μέγιστο αποτέλεσμα με ελάχιστους τραυματισμού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Τόσες δεξιότητες όσες είναι απαραίτητες για να είναι το άτομο σε όλη του τη ζωή κινητικά δραστήρι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1360" y="579132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66ff33"/>
                </a:solidFill>
                <a:latin typeface="Times New Roman"/>
              </a:rPr>
              <a:t>http://www.fcps.k12.va.us/about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758B-F47E-4424-A592-9EB196E346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E457E-736B-4A20-AC8F-01333116205E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d06860_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733920" cy="2492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077320" cy="64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ff00"/>
                </a:solidFill>
                <a:latin typeface="Arial Narrow"/>
              </a:rPr>
              <a:t>Στάδια σχηματισμού θετικών στάσεων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2742840"/>
            <a:ext cx="687384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άλυψη της αξίας της άσκη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έρασμα σε έμπρακτη και αυτενεργό συμμετοχή σε κινητικές δραστηριότητ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υτοέλεγχο και αυτοαξιολόγη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7C4D-46F6-44BC-896E-A8007A946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BAE62-475B-4B07-A545-3E0380C189C0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98144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410840"/>
            <a:ext cx="842184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ff00"/>
                </a:solidFill>
                <a:latin typeface="Arial Narrow"/>
              </a:rPr>
              <a:t>Άλλο θετική άποψη και άλλο θετική στάση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6476760" cy="32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Arial Narrow"/>
              </a:rPr>
              <a:t>Η απλή αναγνώριση της αξίας της άσκησης σημαίνει μόνο θετική άποψ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Arial Narrow"/>
              </a:rPr>
              <a:t>Χωρίς έμπρακτη και αυτενεργό συστηματική συμμετοχή σε κινητικές δραστηριότητες δεν υπάρχει θετική στά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Δ. Χατζηχαριστός - Σκοπός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34B2-9D04-4D0F-8076-00800BDC20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B13AC-2D47-4F03-B2F8-0A53EEC66869}" type="datetime3">
              <a:rPr lang="en-US"/>
              <a:t>July 30, 20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6T15:22:32Z</dcterms:created>
  <dc:creator>Hatziharistos</dc:creator>
  <dc:description/>
  <dc:language>en-US</dc:language>
  <cp:lastModifiedBy>Hatziharistos Dimitris</cp:lastModifiedBy>
  <dcterms:modified xsi:type="dcterms:W3CDTF">2002-10-30T21:44:47Z</dcterms:modified>
  <cp:revision>25</cp:revision>
  <dc:subject/>
  <dc:title>Σκοποί Φυσικής Αγωγής</dc:title>
</cp:coreProperties>
</file>