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89D-1901-4088-8B7B-CF312820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F33A-7A68-4D24-996A-9F379A4B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46E0-B0B1-4ED5-9D77-36B2B42D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AED7-D411-4964-900F-8E8278340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2D2-758C-473E-B032-5D66053B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068-A39E-4BC2-AF76-FE4DDA21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5C36-7826-44E1-8092-3B201E1A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D92-45FE-4833-A6ED-405F0813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E5E-3FF5-49A6-90FD-D90BE4BA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71C-816C-4742-9EE7-9D1ADB21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E79-2D8B-408E-9AE2-A922EDDC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267-4883-43CC-BE0D-27A911FE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4AF3-F663-4C51-B0D9-94F02448885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76964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r>
              <a:rPr b="0" lang="el-GR" sz="6600" spc="-1" strike="noStrike" u="sng">
                <a:solidFill>
                  <a:srgbClr val="ffff00"/>
                </a:solidFill>
                <a:uFillTx/>
                <a:latin typeface="Times New Roman"/>
              </a:rPr>
              <a:t>ΓΩΓΗ  ΥΓΕΙΑ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33"/>
                </a:solidFill>
                <a:latin typeface="Times New Roman"/>
              </a:rPr>
              <a:t>Health education</a:t>
            </a:r>
            <a:br>
              <a:rPr sz="4000"/>
            </a:b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’education sanitaire</a:t>
            </a:r>
            <a:br>
              <a:rPr sz="3600"/>
            </a:b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Gesundheitserzieh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Ποσοστό των μαθητών των τριών τάξεων λυκείου που καπνίζου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23920" y="2165400"/>
          <a:ext cx="672480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2165400"/>
                    <a:ext cx="672480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 flipV="1">
            <a:off x="1295280" y="4493520"/>
            <a:ext cx="42674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Ποσοστό των μαθητών των τριών τάξεων λυκείου που δηλώνουν ότι πίνουν αλκοόλ 3-7 φορές την εβδομάδ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2054160"/>
          <a:ext cx="8077320" cy="40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4160"/>
                    <a:ext cx="807732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838080" y="4233960"/>
            <a:ext cx="4329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Ποσοστό μαθητών των τριών τάξεων λυκείου που τρώνε σχεδόν κάθε μέρα πρωιν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09480" y="1752480"/>
          <a:ext cx="800100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8001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Kατανομή των μαθητών των τριών τάξεων λυκείου ως προς την ώρα που πάνε για ύπν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838080" y="1582560"/>
          <a:ext cx="7543800" cy="47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82560"/>
                    <a:ext cx="754380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ffff00"/>
                </a:solidFill>
                <a:latin typeface="Times New Roman"/>
              </a:rPr>
              <a:t>Υγεία-Ασθένει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5680" y="1905120"/>
            <a:ext cx="7848000" cy="155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Στη σημερινή εποχή η 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imes New Roman"/>
              </a:rPr>
              <a:t>υγεία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και η 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imes New Roman"/>
              </a:rPr>
              <a:t>ευεξία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το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ανθρώπου απειλείται κυρίως από εκφυλιστικέ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αιτίες, που οφείλονται στον τρόπο ζωή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9280" y="4572000"/>
            <a:ext cx="767880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Παλαιότερα η υγεία απειλούνταν κυρίω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από μολυσματικές ασθένειε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ύγχρονος τρόπος ζωή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Modern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705720" cy="3276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Μειωμένη κινητική δραστηριότητ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Κακή διατροφή (αυξημένα λιπαρά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371600"/>
            <a:ext cx="6629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66ff33"/>
                </a:solidFill>
                <a:latin typeface="Times New Roman"/>
              </a:rPr>
              <a:t>1 στα 3 ελληνόπουλα είναι παχύσαρκο, το μεγαλύτερο </a:t>
            </a:r>
            <a:br>
              <a:rPr sz="4000"/>
            </a:br>
            <a:r>
              <a:rPr b="0" lang="el-GR" sz="4000" spc="-1" strike="noStrike">
                <a:solidFill>
                  <a:srgbClr val="66ff33"/>
                </a:solidFill>
                <a:latin typeface="Times New Roman"/>
              </a:rPr>
              <a:t>ποσοστό στην Ευρώπη </a:t>
            </a:r>
            <a:r>
              <a:rPr b="0" lang="el-GR" sz="2800" spc="-1" strike="noStrike">
                <a:solidFill>
                  <a:srgbClr val="66ff33"/>
                </a:solidFill>
                <a:latin typeface="Times New Roman"/>
              </a:rPr>
              <a:t>(Ραλλίδης 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babe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42900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66ff33"/>
                </a:solidFill>
                <a:latin typeface="Times New Roman"/>
              </a:rPr>
              <a:t>Αύξηση της χοληστερόλης στο αίμα των παιδιών: στη δεκαετία ΄70 ήταν 160 mg/dl σήμερα είναι 170 mg/dl </a:t>
            </a:r>
            <a:r>
              <a:rPr b="0" lang="el-GR" sz="2000" spc="-1" strike="noStrike">
                <a:solidFill>
                  <a:srgbClr val="66ff33"/>
                </a:solidFill>
                <a:latin typeface="Times New Roman"/>
              </a:rPr>
              <a:t>(Ραλλίδης 1999)</a:t>
            </a:r>
            <a:r>
              <a:rPr b="0" lang="el-GR" sz="36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87960" y="2590920"/>
            <a:ext cx="1962360" cy="2514600"/>
            <a:chOff x="687960" y="2590920"/>
            <a:chExt cx="1962360" cy="2514600"/>
          </a:xfrm>
        </p:grpSpPr>
        <p:sp>
          <p:nvSpPr>
            <p:cNvPr id="96" name=""/>
            <p:cNvSpPr/>
            <p:nvPr/>
          </p:nvSpPr>
          <p:spPr>
            <a:xfrm>
              <a:off x="687960" y="2590920"/>
              <a:ext cx="19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00"/>
                  </a:solidFill>
                  <a:latin typeface="Times New Roman"/>
                </a:rPr>
                <a:t>Υγιής αρτηρί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artiria11" descr=""/>
            <p:cNvPicPr/>
            <p:nvPr/>
          </p:nvPicPr>
          <p:blipFill>
            <a:blip r:embed="rId1"/>
            <a:stretch/>
          </p:blipFill>
          <p:spPr>
            <a:xfrm>
              <a:off x="990720" y="3429000"/>
              <a:ext cx="147636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5487480" y="2666880"/>
            <a:ext cx="2401200" cy="2667240"/>
            <a:chOff x="5487480" y="2666880"/>
            <a:chExt cx="2401200" cy="2667240"/>
          </a:xfrm>
        </p:grpSpPr>
        <p:sp>
          <p:nvSpPr>
            <p:cNvPr id="99" name=""/>
            <p:cNvSpPr/>
            <p:nvPr/>
          </p:nvSpPr>
          <p:spPr>
            <a:xfrm>
              <a:off x="5487480" y="266688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ffff00"/>
                  </a:solidFill>
                  <a:latin typeface="Times New Roman"/>
                </a:rPr>
                <a:t>Μη υγιής αρτηρί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artiria1" descr=""/>
            <p:cNvPicPr/>
            <p:nvPr/>
          </p:nvPicPr>
          <p:blipFill>
            <a:blip r:embed="rId2"/>
            <a:stretch/>
          </p:blipFill>
          <p:spPr>
            <a:xfrm>
              <a:off x="5791320" y="3657600"/>
              <a:ext cx="201924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99ff33"/>
                </a:solidFill>
                <a:latin typeface="Times New Roman"/>
              </a:rPr>
              <a:t>Για να υπάρξει πρόληψη θα πρέπει να υπάρχε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8960" y="2362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2840" y="2260440"/>
            <a:ext cx="13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Γνώσ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8960" y="3276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9600" y="3022560"/>
            <a:ext cx="585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ωστή συσχέτιση της αιτίας με τ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8960" y="4495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7080" y="4359240"/>
            <a:ext cx="6346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Ικανότητα της σκέψης να ξεπερνά τ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αρό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8960" y="5791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0960" y="5562720"/>
            <a:ext cx="6631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Θέληση για δράση, τη στιγμή που κάτ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έτοιο δεν έχει γίνει απαραίτητ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133720"/>
            <a:ext cx="7315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τόχοι Αγωγής Υγεία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295280" y="1523880"/>
            <a:ext cx="3276720" cy="1447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523880"/>
            <a:ext cx="2438280" cy="1447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4800600"/>
            <a:ext cx="3593880" cy="90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Times New Roman"/>
              </a:rPr>
              <a:t>Διαμόρφωση σταθερώ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Times New Roman"/>
              </a:rPr>
              <a:t>συνηθειών υγιεινή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3048120"/>
            <a:ext cx="3429000" cy="7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Times New Roman"/>
              </a:rPr>
              <a:t>Διαμόρφωση στάσεων για την υγεί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7800" y="3016080"/>
            <a:ext cx="3141720" cy="7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Times New Roman"/>
              </a:rPr>
              <a:t>Απόκτηση γνώσεω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Times New Roman"/>
              </a:rPr>
              <a:t>και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Times New Roman"/>
              </a:rPr>
              <a:t>ικανοτήτ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523880"/>
            <a:ext cx="0" cy="3200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Ορισμός Υγεία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ΥΓΕΙΑ ΔΕΝ ΣΗΜΑΙΝΕΙ ΕΛΛΕΙΨΗ ΑΣΘΕΝΕΙΑΣ Η ΑΝΑΠΗΡΙΑΣ,</a:t>
            </a:r>
            <a:br>
              <a:rPr sz="3200"/>
            </a:br>
            <a:r>
              <a:rPr b="0" lang="el-GR" sz="3200" spc="-1" strike="noStrike" u="sng">
                <a:solidFill>
                  <a:srgbClr val="99ff66"/>
                </a:solidFill>
                <a:uFillTx/>
                <a:latin typeface="Times New Roman"/>
              </a:rPr>
              <a:t>ΕΙΝΑΙ Η</a:t>
            </a:r>
            <a:r>
              <a:rPr b="0" lang="en-US" sz="3200" spc="-1" strike="noStrike" u="sng">
                <a:solidFill>
                  <a:srgbClr val="99ff66"/>
                </a:solidFill>
                <a:uFillTx/>
                <a:latin typeface="Times New Roman"/>
              </a:rPr>
              <a:t> </a:t>
            </a:r>
            <a:r>
              <a:rPr b="0" lang="el-GR" sz="3200" spc="-1" strike="noStrike" u="sng">
                <a:solidFill>
                  <a:srgbClr val="99ff66"/>
                </a:solidFill>
                <a:uFillTx/>
                <a:latin typeface="Times New Roman"/>
              </a:rPr>
              <a:t>ΒΕΛΤΙΣΤΗ ΦΥΣΙΚΗ, ΨΥΧΙΚΗ ΚΑΙ ΚΟΙΝΩΝΙΚΗ ΚΑΤΑΣΤΑΣΗ ΤΟΥ ΑΤΟΜΟΥ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(Π.Ο.Υ.,194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1752480"/>
            <a:ext cx="5181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cc99"/>
                </a:solidFill>
                <a:latin typeface="Times New Roman"/>
              </a:rPr>
              <a:t>Στόχοι Αγωγής Υγεία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28600" y="1752480"/>
            <a:ext cx="8686800" cy="464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 u="sng">
                <a:solidFill>
                  <a:srgbClr val="ffff00"/>
                </a:solidFill>
                <a:uFillTx/>
                <a:latin typeface="Times New Roman"/>
              </a:rPr>
              <a:t>Η αγωγή υγείας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, ενισχύοντας την υπευθυνότητα,την αυτοεκτίμηση, την αυτοπεποίθηση, την προσωπικότητα και τις δεξιότητες του μαθητή, </a:t>
            </a:r>
            <a:r>
              <a:rPr b="0" lang="el-GR" sz="3600" spc="-1" strike="noStrike" u="sng">
                <a:solidFill>
                  <a:srgbClr val="ffffff"/>
                </a:solidFill>
                <a:uFillTx/>
                <a:latin typeface="Times New Roman"/>
              </a:rPr>
              <a:t>μέσω της ενεργητικής και βιωματικής μάθησης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έχει σα στόχο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 να συμβάλει πραγματικά στην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αλλαγή στάσης και συμπεριφοράς των μαθητών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cc99"/>
                </a:solidFill>
                <a:latin typeface="Times New Roman"/>
              </a:rPr>
              <a:t>(ΥΠΕΠΘ,  Γραφείο Αγωγής Υγεία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cc99"/>
                </a:solidFill>
                <a:latin typeface="Times New Roman"/>
              </a:rPr>
              <a:t>Περιεχόμενο της Αγωγής Υγεία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371600"/>
            <a:ext cx="68580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 u="sng">
                <a:solidFill>
                  <a:srgbClr val="ffffff"/>
                </a:solidFill>
                <a:uFillTx/>
                <a:latin typeface="Times New Roman"/>
              </a:rPr>
              <a:t>Προσχολική ηλικία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Γνώσεις και ικανότητες σχετικά μ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971800"/>
            <a:ext cx="73152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την καθαριότητα του σώματος και του περιβάλλοντος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4262400"/>
            <a:ext cx="735804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ην οδική ασφάλεια (κυκλοφοριακή αγωγή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105520"/>
            <a:ext cx="73152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τη σωστή χρησιμοποίηση ηλεκτρικών συσκευώ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99ff66"/>
                </a:solidFill>
                <a:latin typeface="Times New Roman"/>
              </a:rPr>
              <a:t>Περιεχόμενο της Αγωγής Υγεία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7280" y="1573200"/>
            <a:ext cx="5272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 u="sng">
                <a:solidFill>
                  <a:srgbClr val="ffffff"/>
                </a:solidFill>
                <a:uFillTx/>
                <a:latin typeface="Times New Roman"/>
              </a:rPr>
              <a:t>Σχολική ηλικί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Γνώσεις και ικανότητες σχετικά μ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95480"/>
            <a:ext cx="72388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τη φροντίδα του σώματος, τη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προστασία από τον θόρυβο, τον ήλιο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648320"/>
            <a:ext cx="716256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την πρόληψη διαφόρων ασθενειών και κύρια του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DS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266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την προετοιμασία των βασικών γευμάτων, τη σχέση μεταξύ της    διατροφής και της ανάπτυξης, της υγείας και της διάθεσης του ατόμου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809880"/>
            <a:ext cx="7772400" cy="228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κατανόηση της ανάγκης για συστημα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τική κινητική δραστηριότητα, για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ύπαρξη ισορροπίας μεταξύ εργασία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και ξεκούρασης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4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γνώση και χρησιμοποίηση μεθόδων για καταπόλέμηση του άγχους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173400"/>
            <a:ext cx="7696080" cy="1922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Times New Roman"/>
              </a:rPr>
              <a:t>κατανόηση των ψυχοσωματικώ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4000" spc="-1" strike="noStrike">
                <a:solidFill>
                  <a:srgbClr val="ffffff"/>
                </a:solidFill>
                <a:latin typeface="Times New Roman"/>
              </a:rPr>
              <a:t>αλλαγών που συμβαίνουν στην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4000" spc="-1" strike="noStrike">
                <a:solidFill>
                  <a:srgbClr val="ffffff"/>
                </a:solidFill>
                <a:latin typeface="Times New Roman"/>
              </a:rPr>
              <a:t>εφηβεία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153280" cy="2361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Times New Roman"/>
              </a:rPr>
              <a:t>γνώση των αιτιών και των συνεπειών από τη χρήση εξαρτησιογόνων ουσιών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304920"/>
            <a:ext cx="8153280" cy="21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</a:rPr>
              <a:t>γνώση των σεξουαλικών προβλημάτων και ανάπτυξη της ικανότητας για αντιμετώπισή τους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Θέματα Αγωγής Υγείας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ΥΠΕΠ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Καρκίνος-κάπνισμα-διατροφ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Στοματική Υγιειν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Περιβάλλον και Υγεί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Καρδιαγγειακά νοσήματ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Πρόληψη και αντιμετωπιση εκτάκτων καταστάσεων (σεισμών, πυρκαγιών, κλπ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Σύμφωνα με τον ορισμό:</a:t>
            </a:r>
            <a:br>
              <a:rPr sz="3200"/>
            </a:b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της </a:t>
            </a:r>
            <a:r>
              <a:rPr b="0" lang="el-GR" sz="3200" spc="-1" strike="noStrike" u="sng">
                <a:solidFill>
                  <a:srgbClr val="00cc99"/>
                </a:solidFill>
                <a:uFillTx/>
                <a:latin typeface="Times New Roman"/>
              </a:rPr>
              <a:t>Παγκόσμιας Οργάνωσης Υγείας,</a:t>
            </a:r>
            <a:br>
              <a:rPr sz="3200"/>
            </a:b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του </a:t>
            </a:r>
            <a:r>
              <a:rPr b="0" lang="el-GR" sz="3200" spc="-1" strike="noStrike" u="sng">
                <a:solidFill>
                  <a:srgbClr val="00cc99"/>
                </a:solidFill>
                <a:uFillTx/>
                <a:latin typeface="Times New Roman"/>
              </a:rPr>
              <a:t>Συμβουλίου της Ευρώπης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 και </a:t>
            </a:r>
            <a:br>
              <a:rPr sz="3200"/>
            </a:b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της </a:t>
            </a:r>
            <a:r>
              <a:rPr b="0" lang="el-GR" sz="3200" spc="-1" strike="noStrike" u="sng">
                <a:solidFill>
                  <a:srgbClr val="00cc99"/>
                </a:solidFill>
                <a:uFillTx/>
                <a:latin typeface="Times New Roman"/>
              </a:rPr>
              <a:t>Ευρωπαϊκής Επιτροπής</a:t>
            </a:r>
            <a:r>
              <a:rPr b="0" lang="el-GR" sz="3200" spc="-1" strike="noStrike">
                <a:solidFill>
                  <a:srgbClr val="00cc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3048120"/>
            <a:ext cx="76197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το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σχολείο προαγωγής της Υγείας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δίνει τη δυνατότητα στους </a:t>
            </a:r>
            <a:r>
              <a:rPr b="0" lang="el-GR" sz="3200" spc="-1" strike="noStrike" u="sng">
                <a:solidFill>
                  <a:srgbClr val="ffffff"/>
                </a:solidFill>
                <a:uFillTx/>
                <a:latin typeface="Times New Roman"/>
              </a:rPr>
              <a:t>μαθητές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, στους </a:t>
            </a:r>
            <a:r>
              <a:rPr b="0" lang="el-GR" sz="3200" spc="-1" strike="noStrike" u="sng">
                <a:solidFill>
                  <a:srgbClr val="ffffff"/>
                </a:solidFill>
                <a:uFillTx/>
                <a:latin typeface="Times New Roman"/>
              </a:rPr>
              <a:t>εκπαιδευτικούς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, στους </a:t>
            </a:r>
            <a:r>
              <a:rPr b="0" lang="el-GR" sz="3200" spc="-1" strike="noStrike" u="sng">
                <a:solidFill>
                  <a:srgbClr val="ffffff"/>
                </a:solidFill>
                <a:uFillTx/>
                <a:latin typeface="Times New Roman"/>
              </a:rPr>
              <a:t>γονείς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 και στην </a:t>
            </a:r>
            <a:r>
              <a:rPr b="0" lang="el-GR" sz="3200" spc="-1" strike="noStrike" u="sng">
                <a:solidFill>
                  <a:srgbClr val="ffffff"/>
                </a:solidFill>
                <a:uFillTx/>
                <a:latin typeface="Times New Roman"/>
              </a:rPr>
              <a:t>κοινωνία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, να αναλάβουν δράση για πιο υγιεινή ζωή, πιο υγιές σχολείο και πιο υγιή κοινωνία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Σημαντικές χρονολογίες στη δεκαετία του ’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99ff33"/>
                </a:solidFill>
                <a:latin typeface="Times New Roman"/>
              </a:rPr>
              <a:t>1992</a:t>
            </a:r>
            <a:r>
              <a:rPr b="1" lang="el-GR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ημιουργείται το Ευρωπαϊκό Δίκτυο σχολείων προαγωγής Υγείας (38 χώρες, 500 σχολεία, 400.000 μαθητέ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99ff33"/>
                </a:solidFill>
                <a:latin typeface="Times New Roman"/>
              </a:rPr>
              <a:t>1995</a:t>
            </a:r>
            <a:r>
              <a:rPr b="1" lang="el-GR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 δημιουργείται η Παγκόσμια πρωτοβουλία προαγωγής Υγείας μέσα από το σχολεί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cc00"/>
                </a:solidFill>
                <a:latin typeface="Times New Roman"/>
              </a:rPr>
              <a:t>1997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- πραγματοποιείται στην Ελλάδα το 1ο Συνέδριο του Ευρωπαϊκού Δικτύου Σχολείων προαγωγής Υγεί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99ff33"/>
                </a:solidFill>
                <a:latin typeface="Times New Roman"/>
              </a:rPr>
              <a:t>1998</a:t>
            </a: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- η Παγκόσμια Ομοσπονδία Εκπαιδευτικών καλεί τις εθνικές οργανώσεις εκπαιδευτικών να στηρίξουν την Αγωγή Υγείας στα σχολεί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Φορείς που εχουν συμβάλει στην Αγωγή Υγείας στην Ελλάδ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Διεύθυνση σχολικής Υγιεινής Υπουργείου Υγεί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Υπουργείο Παιδείας (Γραφείο Αγωγής Υγεία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Εργαστήριο Πειραματικής Παιδαγωγικής του Πανεπιστημίου Αθηνώ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Ινστιτούτο Υγείας του παιδιού (Ε.ΔΙ.Σ.Π.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μήματα Ιατρικής ΑΕ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Times New Roman"/>
              </a:rPr>
              <a:t>Τμήματα Φυσικής Αγωγής-Αθλητισμο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057400"/>
            <a:ext cx="7467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 </a:t>
            </a: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ΓΩΓΗ ΥΓΕΙΑΣ ΕΙΝΑΙ </a:t>
            </a:r>
            <a:br>
              <a:rPr sz="4400"/>
            </a:b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«ΠΑΙΔΙ» ΤΗΣ ΙΑΤΡΙΚΗΣ ΚΑΙ </a:t>
            </a:r>
            <a:br>
              <a:rPr sz="4400"/>
            </a:b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ΤΗΣ ΠΑΙΔΑΓΩΓΙΚΗ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4038480"/>
            <a:ext cx="28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0000"/>
                </a:solidFill>
                <a:latin typeface="Times New Roman"/>
              </a:rPr>
              <a:t>Αγωγή Υγεία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33520" y="4768920"/>
            <a:ext cx="8229600" cy="642600"/>
            <a:chOff x="533520" y="4768920"/>
            <a:chExt cx="8229600" cy="642600"/>
          </a:xfrm>
        </p:grpSpPr>
        <p:grpSp>
          <p:nvGrpSpPr>
            <p:cNvPr id="49" name=""/>
            <p:cNvGrpSpPr/>
            <p:nvPr/>
          </p:nvGrpSpPr>
          <p:grpSpPr>
            <a:xfrm>
              <a:off x="2895480" y="4975200"/>
              <a:ext cx="2159280" cy="228240"/>
              <a:chOff x="2895480" y="4975200"/>
              <a:chExt cx="2159280" cy="228240"/>
            </a:xfrm>
          </p:grpSpPr>
          <p:sp>
            <p:nvSpPr>
              <p:cNvPr id="50" name=""/>
              <p:cNvSpPr/>
              <p:nvPr/>
            </p:nvSpPr>
            <p:spPr>
              <a:xfrm>
                <a:off x="2895480" y="5203440"/>
                <a:ext cx="21592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2895480" y="4975200"/>
                <a:ext cx="21592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533520" y="47689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600" spc="-1" strike="noStrike">
                  <a:solidFill>
                    <a:srgbClr val="99ff33"/>
                  </a:solidFill>
                  <a:latin typeface="Times New Roman"/>
                </a:rPr>
                <a:t>ΙΑΤΡΙΚ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4120" y="47689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600" spc="-1" strike="noStrike">
                  <a:solidFill>
                    <a:srgbClr val="99ff33"/>
                  </a:solidFill>
                  <a:latin typeface="Times New Roman"/>
                </a:rPr>
                <a:t>ΠΑΙΔΑΓΩΓΙΚΗ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ΞΕΛΙΞΗ ΤΗΣ ΑΝΤΙΛΗΨΗΣ ΓΙΑ ΤΗ ΦΥΣΙΚΗ ΑΓΩΓ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ΠΌ ΤΗΝ «ΠΡΑΚΤΙΚΗ» (διδασκαλία, ανάπτυξη φυσικής κατάσταση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ΤΗΝ ΑΓΩΓΗ ΜΕΣΩ ΤΗΣ ΑΛΛΑΓΗΣ ΤΗ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ΥΝΕΙΔΗΣΗΣ (νέες αξίες και στάσει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Εμπλουτισμός της προσωπικότητας του μαθητ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sinski, 199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191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905120"/>
            <a:ext cx="8001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ΕΞΕΛΙΞΗ ΤΗΣ ΑΝΤΙΛΗΨΗΣ ΓΙΑ ΤΗΝ ΑΓΩΓΗ ΥΓΕΙΑ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ΠΌ ΤΗΝ «ΠΡΑΚΤΙΚΗ» (συμβουλές για την υγεία και για καταπολέμηση ασθενειών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ΤΗΝ ΑΓΩΓΗ ΜΕΣΩ ΤΗΣ ΑΛΛΑΓΗΣ ΤΗ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ΣΥΝΕΙΔΗΣΗ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ροσωπικότητα του μαθητή που να ευνοεί τη φροντίδα της υγεία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awanski, 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429000"/>
            <a:ext cx="685800" cy="1052640"/>
          </a:xfrm>
          <a:prstGeom prst="downArrow">
            <a:avLst>
              <a:gd name="adj1" fmla="val 50000"/>
              <a:gd name="adj2" fmla="val 383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676520"/>
            <a:ext cx="7848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696080" cy="297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ffffff"/>
                </a:solidFill>
                <a:latin typeface="Times New Roman"/>
              </a:rPr>
              <a:t>ΣΥΜΒΟΛΗ ΤΗΣ ΦΥΣΙΚΗΣ ΑΓΩΓΗΣ ΣΤΗΝ ΠΡΟΑΓΩΓΗ ΤΗΣ ΥΓΕΙΑ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d06529_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3657600" cy="2900520"/>
          </a:xfrm>
          <a:prstGeom prst="rect">
            <a:avLst/>
          </a:prstGeom>
          <a:ln w="0">
            <a:noFill/>
          </a:ln>
        </p:spPr>
      </p:pic>
      <p:pic>
        <p:nvPicPr>
          <p:cNvPr id="154" name="tennis" descr=""/>
          <p:cNvPicPr/>
          <p:nvPr/>
        </p:nvPicPr>
        <p:blipFill>
          <a:blip r:embed="rId2"/>
          <a:stretch/>
        </p:blipFill>
        <p:spPr>
          <a:xfrm>
            <a:off x="5257800" y="152280"/>
            <a:ext cx="373392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09480" y="1752480"/>
          <a:ext cx="7959960" cy="43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959960" cy="43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ως αντιλαμβάνονται οι μαθητές τα </a:t>
            </a:r>
            <a:br>
              <a:rPr sz="3600"/>
            </a:b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οφέλη από τη φυσική αγωγή</a:t>
            </a: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el-GR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udas &amp; Bagiatis, 19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09480" y="1828800"/>
          <a:ext cx="7753320" cy="43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75332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ff00"/>
                </a:solidFill>
                <a:latin typeface="Arial"/>
              </a:rPr>
              <a:t>Για ποιους λόγους γυμνάζονται </a:t>
            </a:r>
            <a:br>
              <a:rPr sz="4000"/>
            </a:br>
            <a:r>
              <a:rPr b="0" lang="el-GR" sz="2400" spc="-1" strike="noStrike">
                <a:solidFill>
                  <a:srgbClr val="00ff00"/>
                </a:solidFill>
                <a:latin typeface="Arial"/>
              </a:rPr>
              <a:t>(vita 1999, 22: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Περιεχόμενο Φυσικής Αγωγή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86000"/>
            <a:ext cx="8534520" cy="358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Όταν το </a:t>
            </a:r>
            <a:r>
              <a:rPr b="0" lang="el-GR" sz="2800" spc="-1" strike="noStrike">
                <a:solidFill>
                  <a:srgbClr val="ffff00"/>
                </a:solidFill>
                <a:latin typeface="Arial"/>
              </a:rPr>
              <a:t>μάθημα της φυσικής αγωγής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είναι προσανατολισμένο στη </a:t>
            </a:r>
            <a:r>
              <a:rPr b="0" lang="el-GR" sz="2800" spc="-1" strike="noStrike" u="sng">
                <a:solidFill>
                  <a:srgbClr val="ffff00"/>
                </a:solidFill>
                <a:uFillTx/>
                <a:latin typeface="Arial"/>
              </a:rPr>
              <a:t>φυσική κατάσταση για την υγεία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, εκτός από την άμεση ευεργετική αξία, αυξάνονται οι πιθανότητες να αποκτήσουν οι μαθητές </a:t>
            </a:r>
            <a:r>
              <a:rPr b="0" lang="el-GR" sz="2800" spc="-1" strike="noStrike" u="sng">
                <a:solidFill>
                  <a:srgbClr val="ffff00"/>
                </a:solidFill>
                <a:uFillTx/>
                <a:latin typeface="Arial"/>
              </a:rPr>
              <a:t>θετική στάση απέναντι στη δια βίου άσκηση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752480"/>
            <a:ext cx="80773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66960" y="3211200"/>
            <a:ext cx="352872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Βλέπουν περισσότερο τηλεόρασ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ίναι σε μεγαλύτερο ποσοστό παχύσαρκ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676520"/>
            <a:ext cx="4038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ff33"/>
                </a:solidFill>
                <a:latin typeface="Arial"/>
              </a:rPr>
              <a:t>μαθήματ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ff33"/>
                </a:solidFill>
                <a:latin typeface="Arial"/>
              </a:rPr>
              <a:t>αθλητικών δεξιοτήτω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676520"/>
            <a:ext cx="4038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ff33"/>
                </a:solidFill>
                <a:latin typeface="Arial"/>
              </a:rPr>
              <a:t>μαθήματ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ff33"/>
                </a:solidFill>
                <a:latin typeface="Arial"/>
              </a:rPr>
              <a:t>φυσικής κατάσταση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259092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2590920"/>
            <a:ext cx="0" cy="685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Περιεχόμενο Φυσικής Αγωγή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62440" y="3211560"/>
            <a:ext cx="359424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σκούνται για την υγεία του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Προσέχουν τη διατροφή του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 μικρότερο ποσοστό γίνονται καπνιστέ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7120" y="6248520"/>
            <a:ext cx="190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Sallis </a:t>
            </a:r>
            <a:r>
              <a:rPr b="0" lang="el-GR" sz="1400" spc="-1" strike="noStrike">
                <a:solidFill>
                  <a:srgbClr val="ffffff"/>
                </a:solidFill>
                <a:latin typeface="Arial"/>
              </a:rPr>
              <a:t>και συν., 198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99ff33"/>
                </a:solidFill>
                <a:latin typeface="Arial"/>
              </a:rPr>
              <a:t>Άσκηση-ηλικί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80880" y="22096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Σε όσο πιο μικρή ηλικία το παιδί αρχίζει να </a:t>
            </a:r>
            <a:r>
              <a:rPr b="0" lang="el-GR" sz="3600" spc="-1" strike="noStrike" u="sng">
                <a:solidFill>
                  <a:srgbClr val="ffff00"/>
                </a:solidFill>
                <a:uFillTx/>
                <a:latin typeface="Arial"/>
              </a:rPr>
              <a:t>γυμνάζεται για την υγεία</a:t>
            </a:r>
            <a:r>
              <a:rPr b="0" lang="el-GR" sz="3600" spc="-1" strike="noStrike">
                <a:solidFill>
                  <a:srgbClr val="ffff00"/>
                </a:solidFill>
                <a:latin typeface="Arial"/>
              </a:rPr>
              <a:t> τόσο αυξάνονται οι πιθανότητες να συνεχίσει να γυμνάζεται για την υγεία και κατά την ενηλικίωσ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600200"/>
            <a:ext cx="8001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"/>
              </a:rPr>
              <a:t>Η αντίληψη της σχέσης της άσκησης με την υγεία κατά την παιδική ηλικία και κατά την ενηλικίωση </a:t>
            </a:r>
            <a:r>
              <a:rPr b="0" lang="el-GR" sz="1800" spc="-1" strike="noStrike">
                <a:solidFill>
                  <a:srgbClr val="ffff00"/>
                </a:solidFill>
                <a:latin typeface="Arial"/>
              </a:rPr>
              <a:t>(Blair &amp; Meredith, 1994, p.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01880" y="2666880"/>
            <a:ext cx="5032440" cy="2438640"/>
            <a:chOff x="1901880" y="2666880"/>
            <a:chExt cx="5032440" cy="2438640"/>
          </a:xfrm>
        </p:grpSpPr>
        <p:sp>
          <p:nvSpPr>
            <p:cNvPr id="177" name=""/>
            <p:cNvSpPr/>
            <p:nvPr/>
          </p:nvSpPr>
          <p:spPr>
            <a:xfrm>
              <a:off x="6934320" y="2971800"/>
              <a:ext cx="0" cy="17524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5105520"/>
              <a:ext cx="342900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743200" y="2819520"/>
              <a:ext cx="3352680" cy="21333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19520" y="2819520"/>
              <a:ext cx="3276360" cy="21333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1880" y="2971800"/>
              <a:ext cx="0" cy="17524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200" y="2666880"/>
              <a:ext cx="342900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107360" y="2308320"/>
            <a:ext cx="6702120" cy="3157200"/>
            <a:chOff x="1107360" y="2308320"/>
            <a:chExt cx="6702120" cy="3157200"/>
          </a:xfrm>
        </p:grpSpPr>
        <p:sp>
          <p:nvSpPr>
            <p:cNvPr id="184" name=""/>
            <p:cNvSpPr/>
            <p:nvPr/>
          </p:nvSpPr>
          <p:spPr>
            <a:xfrm>
              <a:off x="1107360" y="2308320"/>
              <a:ext cx="159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Άσκηση στη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παιδική ηλικί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54320" y="474660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Άσκησ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ενηλίκω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19000" y="2384280"/>
              <a:ext cx="159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Υγεία στη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παιδική ηλικί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65960" y="48229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Υγεί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ενηλίκω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99"/>
                </a:solidFill>
                <a:latin typeface="Times New Roman"/>
              </a:rPr>
              <a:t>Γιατί η Αγωγή Υγείας μπορεί και πρέπει να γίνεται στα πλαίσια της Φυσικής Αγωγή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Η κοινή γνώμη συνδέει την άσκηση με την υγεί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Η φυσική κατάσταση αποτελεί τη βασικότερη παράμετρο υγεία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Με την άσκηση αυξάνονται οι δυνατότητες δημιουργίας θετικής στάσης απέναντι στον υγιεινό τρόπο ζωή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Οι ειδικοί της φυσικής αγωγής έχουν τις απαιτούμενες παιδαγωγικές και βιο-ιατρικές γνώσει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Οι γυμναστές έχουν ανιδιοτελή στάση απέναντι στην υγεία του ανθρώπου, επομένως είναι οι μόνοι που μπορούν να αναπτύξουν προληπτική δράση για να την υγεί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523880"/>
            <a:ext cx="72388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H </a:t>
            </a:r>
            <a:r>
              <a:rPr b="0" lang="el-GR" sz="4400" spc="-1" strike="noStrike">
                <a:solidFill>
                  <a:srgbClr val="99ff33"/>
                </a:solidFill>
                <a:latin typeface="Times New Roman"/>
              </a:rPr>
              <a:t>Αγωγή Υγείας έχει διακλαδικό χαρακτήρα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133720"/>
            <a:ext cx="7391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5120" y="2438280"/>
            <a:ext cx="2277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 u="sng">
                <a:solidFill>
                  <a:srgbClr val="000000"/>
                </a:solidFill>
                <a:uFillTx/>
                <a:latin typeface="Times New Roman"/>
              </a:rPr>
              <a:t>Στηρίζεται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9960" y="3397320"/>
            <a:ext cx="47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στις  </a:t>
            </a:r>
            <a:r>
              <a:rPr b="0" lang="el-GR" sz="3600" spc="-1" strike="noStrike" u="sng">
                <a:solidFill>
                  <a:srgbClr val="ffffff"/>
                </a:solidFill>
                <a:uFillTx/>
                <a:latin typeface="Times New Roman"/>
              </a:rPr>
              <a:t>ιατρικές επιστήμε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0680" y="4114800"/>
            <a:ext cx="56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στις </a:t>
            </a:r>
            <a:r>
              <a:rPr b="0" lang="el-GR" sz="3600" spc="-1" strike="noStrike" u="sng">
                <a:solidFill>
                  <a:srgbClr val="ffffff"/>
                </a:solidFill>
                <a:uFillTx/>
                <a:latin typeface="Times New Roman"/>
              </a:rPr>
              <a:t>παιδαγωγικές επιστήμε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181480"/>
            <a:ext cx="88279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Τέλος 19ου αιώνα, αρχές 20ου μπαίνει η ιατρι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κή και η υγιεινή στην υπηρεσία της αγωγή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Μοντέλα αγωγής υγεία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ροληπτικό ιατρικ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Δραστικό (ριζοσπαστικ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αιδαγωγικ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Αυτοαγωγή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ίστη στην υγεί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EDE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ή ευρωστί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1676520"/>
            <a:ext cx="7162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4000" spc="-1" strike="noStrike">
                <a:solidFill>
                  <a:srgbClr val="ffff00"/>
                </a:solidFill>
                <a:latin typeface="Times New Roman"/>
              </a:rPr>
              <a:t>Μοντέλο "PRECEDE"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προσαρμοσμένο στην άσκηση (Vuori και συν. 199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93880" y="1406520"/>
            <a:ext cx="7294320" cy="4854600"/>
            <a:chOff x="893880" y="1406520"/>
            <a:chExt cx="7294320" cy="4854600"/>
          </a:xfrm>
        </p:grpSpPr>
        <p:sp>
          <p:nvSpPr>
            <p:cNvPr id="196" name=""/>
            <p:cNvSpPr/>
            <p:nvPr/>
          </p:nvSpPr>
          <p:spPr>
            <a:xfrm>
              <a:off x="2219400" y="3822840"/>
              <a:ext cx="4311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93880" y="3111480"/>
              <a:ext cx="1325520" cy="1279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Times New Roman"/>
                </a:rPr>
                <a:t>Τρόπο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Times New Roman"/>
                </a:rPr>
                <a:t>προβολή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Times New Roman"/>
                </a:rPr>
                <a:t>τη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Times New Roman"/>
                </a:rPr>
                <a:t>άσκηση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68560" y="1406520"/>
              <a:ext cx="2819520" cy="14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Παράγοντες προδιάθεση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-γνώσ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-στάσ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-αξίε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-εμπειρίε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68560" y="3006720"/>
              <a:ext cx="2819520" cy="171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Παράγοντες που παρέχουν δυνατότητ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-υποδομ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-κόστο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-εκπαίδευσ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-προσωπικ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68560" y="4813200"/>
              <a:ext cx="28195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Ενισχυτικοί παράγοντε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-στάσεις και συμπεριφορά σημαντικών προσώπων και  ομάδων, π.χ. γονείς, υγειονομικό προσωπικό και φίλο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31120" y="2898720"/>
              <a:ext cx="1657080" cy="1704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Times New Roman"/>
                </a:rPr>
                <a:t>Οργάνωση της άσκησης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Times New Roman"/>
                </a:rPr>
                <a:t>-μέθοδο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Times New Roman"/>
                </a:rPr>
                <a:t>-συχνότητ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Times New Roman"/>
                </a:rPr>
                <a:t>-έντασ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00"/>
                  </a:solidFill>
                  <a:latin typeface="Times New Roman"/>
                </a:rPr>
                <a:t>-περιβάλλο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219400" y="2117880"/>
              <a:ext cx="750960" cy="993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5797440" y="2117880"/>
              <a:ext cx="750960" cy="777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19400" y="4390920"/>
              <a:ext cx="750960" cy="993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797440" y="4592520"/>
              <a:ext cx="750960" cy="8524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66"/>
                </a:solidFill>
                <a:latin typeface="Times New Roman"/>
              </a:rPr>
              <a:t>Μ</a:t>
            </a:r>
            <a:r>
              <a:rPr b="0" lang="el-GR" sz="4400" spc="-1" strike="noStrike">
                <a:solidFill>
                  <a:srgbClr val="ffff66"/>
                </a:solidFill>
                <a:latin typeface="Times New Roman"/>
              </a:rPr>
              <a:t>οντέλο «Πίστη στην Yγεία»</a:t>
            </a:r>
            <a:r>
              <a:rPr b="0" lang="el-GR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(Becker &amp; Rosenstok, 198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1676520"/>
            <a:ext cx="8077320" cy="4572000"/>
            <a:chOff x="685800" y="1676520"/>
            <a:chExt cx="8077320" cy="4572000"/>
          </a:xfrm>
        </p:grpSpPr>
        <p:sp>
          <p:nvSpPr>
            <p:cNvPr id="208" name=""/>
            <p:cNvSpPr/>
            <p:nvPr/>
          </p:nvSpPr>
          <p:spPr>
            <a:xfrm>
              <a:off x="838080" y="1676520"/>
              <a:ext cx="1447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66"/>
                  </a:solidFill>
                  <a:latin typeface="Times New Roman"/>
                </a:rPr>
                <a:t>Προσωπικέ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66"/>
                  </a:solidFill>
                  <a:latin typeface="Times New Roman"/>
                </a:rPr>
                <a:t>αντιλήψει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65360" y="1676520"/>
              <a:ext cx="2057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66"/>
                  </a:solidFill>
                  <a:latin typeface="Times New Roman"/>
                </a:rPr>
                <a:t>Προσδιοριστικο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66"/>
                  </a:solidFill>
                  <a:latin typeface="Times New Roman"/>
                </a:rPr>
                <a:t>παράγοντε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9400" y="1676520"/>
              <a:ext cx="2057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66"/>
                  </a:solidFill>
                  <a:latin typeface="Times New Roman"/>
                </a:rPr>
                <a:t>Πιθανότητ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66"/>
                  </a:solidFill>
                  <a:latin typeface="Times New Roman"/>
                </a:rPr>
                <a:t>δράση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" y="2895480"/>
              <a:ext cx="1676520" cy="175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Συναίσθησ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της ευαισθησία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στη νόσο «Χ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Συναίσθησ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της σοβαρότητα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της νόσου «Χ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53080" y="2286000"/>
              <a:ext cx="221004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Συναίσθηση</a:t>
              </a:r>
              <a:r>
                <a:rPr b="1" lang="el-G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των πλεονεκτημάτων της προληπτικής δράση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πλη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Συναίσθηση</a:t>
              </a: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των δυσκολιών της προληπτικής δράση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53080" y="5181480"/>
              <a:ext cx="221004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Πιθανότητα να παρθούν τα κατάλληλα μέτρα δράση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33880" y="2286000"/>
              <a:ext cx="251928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Δημογραφικές μεταβλητέ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Κοινωνικό-ψυχολογικές μεταβλητέ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Δομικές μεταβλητέ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33880" y="3683160"/>
              <a:ext cx="2519280" cy="56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Αντίληψη του φόβου  από την ασθένεια «Χ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90800" y="4724280"/>
              <a:ext cx="3205080" cy="152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ΟΔΗΓΙΕΣ ΔΡΑΣΗΣ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-Μέσα Μαζικής Ενημέρωσης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-Συμβουλές από άλλους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-Προσωπικά ιατρικά ιστορικά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-Ιατρικά ιστορικά συγγενών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Times New Roman"/>
                </a:rPr>
                <a:t>-Άρθρα σε εφημερίδες, περιοδικά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492800" y="4267080"/>
              <a:ext cx="0" cy="427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96080" y="4572000"/>
              <a:ext cx="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92800" y="3276720"/>
              <a:ext cx="0" cy="380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828800" y="2514600"/>
              <a:ext cx="1447920" cy="304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15000" y="2819520"/>
              <a:ext cx="838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62320" y="3962520"/>
              <a:ext cx="838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91320" y="4191120"/>
              <a:ext cx="914400" cy="990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ff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Oι έξι φάσεις του μοντέλου "PRECEDE" </a:t>
            </a:r>
            <a:br>
              <a:rPr sz="3600"/>
            </a:b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(Green και συν., 198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4246560"/>
            <a:ext cx="144792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γωγ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γεία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το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ογράμ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ατο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υγεί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03360" y="2666880"/>
            <a:ext cx="1231920" cy="6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άγοντες προδιάθεση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5920" y="3240000"/>
            <a:ext cx="115416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η συμπε-ριφορικές αιτί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59360" y="3240000"/>
            <a:ext cx="1303560" cy="7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άγοντες άσχετοι με την υγεί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34440" y="3773520"/>
            <a:ext cx="1304640" cy="72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οιότητ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ζωή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56120" y="4462560"/>
            <a:ext cx="138276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ροβλήματα υγεία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05160" y="4314960"/>
            <a:ext cx="1231920" cy="94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Παράγοντες που παρέχουν δυνατότητ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03360" y="5797440"/>
            <a:ext cx="123192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Ενισχυτικοί παράγοντ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94080" y="4451400"/>
            <a:ext cx="1078200" cy="6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Συμπερι-φορικές αιτίε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828800" y="2971800"/>
            <a:ext cx="533520" cy="1247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19440" y="3276720"/>
            <a:ext cx="704880" cy="1143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8800" y="4788000"/>
            <a:ext cx="568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97480" y="3594240"/>
            <a:ext cx="49356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72280" y="4788000"/>
            <a:ext cx="460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244280" y="4523400"/>
            <a:ext cx="514800" cy="281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49960" y="3429000"/>
            <a:ext cx="68580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11160" y="5305680"/>
            <a:ext cx="568800" cy="793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6800" y="2184480"/>
            <a:ext cx="1179720" cy="406440"/>
          </a:xfrm>
          <a:custGeom>
            <a:avLst/>
            <a:gdLst/>
            <a:ahLst/>
            <a:rect l="l" t="t" r="r" b="b"/>
            <a:pathLst>
              <a:path w="864" h="576">
                <a:moveTo>
                  <a:pt x="0" y="576"/>
                </a:moveTo>
                <a:lnTo>
                  <a:pt x="0" y="288"/>
                </a:lnTo>
                <a:lnTo>
                  <a:pt x="864" y="288"/>
                </a:lnTo>
                <a:lnTo>
                  <a:pt x="864" y="576"/>
                </a:lnTo>
                <a:lnTo>
                  <a:pt x="864" y="288"/>
                </a:lnTo>
                <a:lnTo>
                  <a:pt x="432" y="288"/>
                </a:lnTo>
                <a:lnTo>
                  <a:pt x="432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41520" y="2184480"/>
            <a:ext cx="1216080" cy="406440"/>
          </a:xfrm>
          <a:custGeom>
            <a:avLst/>
            <a:gdLst/>
            <a:ahLst/>
            <a:rect l="l" t="t" r="r" b="b"/>
            <a:pathLst>
              <a:path w="864" h="576">
                <a:moveTo>
                  <a:pt x="0" y="576"/>
                </a:moveTo>
                <a:lnTo>
                  <a:pt x="0" y="288"/>
                </a:lnTo>
                <a:lnTo>
                  <a:pt x="864" y="288"/>
                </a:lnTo>
                <a:lnTo>
                  <a:pt x="864" y="576"/>
                </a:lnTo>
                <a:lnTo>
                  <a:pt x="864" y="288"/>
                </a:lnTo>
                <a:lnTo>
                  <a:pt x="432" y="288"/>
                </a:lnTo>
                <a:lnTo>
                  <a:pt x="432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43400" y="2184480"/>
            <a:ext cx="1066680" cy="406440"/>
          </a:xfrm>
          <a:custGeom>
            <a:avLst/>
            <a:gdLst/>
            <a:ahLst/>
            <a:rect l="l" t="t" r="r" b="b"/>
            <a:pathLst>
              <a:path w="864" h="576">
                <a:moveTo>
                  <a:pt x="0" y="576"/>
                </a:moveTo>
                <a:lnTo>
                  <a:pt x="0" y="288"/>
                </a:lnTo>
                <a:lnTo>
                  <a:pt x="864" y="288"/>
                </a:lnTo>
                <a:lnTo>
                  <a:pt x="864" y="576"/>
                </a:lnTo>
                <a:lnTo>
                  <a:pt x="864" y="288"/>
                </a:lnTo>
                <a:lnTo>
                  <a:pt x="432" y="288"/>
                </a:lnTo>
                <a:lnTo>
                  <a:pt x="432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2184480"/>
            <a:ext cx="2971800" cy="406440"/>
          </a:xfrm>
          <a:custGeom>
            <a:avLst/>
            <a:gdLst/>
            <a:ahLst/>
            <a:rect l="l" t="t" r="r" b="b"/>
            <a:pathLst>
              <a:path w="864" h="576">
                <a:moveTo>
                  <a:pt x="0" y="576"/>
                </a:moveTo>
                <a:lnTo>
                  <a:pt x="0" y="288"/>
                </a:lnTo>
                <a:lnTo>
                  <a:pt x="864" y="288"/>
                </a:lnTo>
                <a:lnTo>
                  <a:pt x="864" y="576"/>
                </a:lnTo>
                <a:lnTo>
                  <a:pt x="864" y="288"/>
                </a:lnTo>
                <a:lnTo>
                  <a:pt x="432" y="288"/>
                </a:lnTo>
                <a:lnTo>
                  <a:pt x="432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9360" y="1523880"/>
            <a:ext cx="11001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Times New Roman"/>
              </a:rPr>
              <a:t>Φάση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00"/>
                </a:solidFill>
                <a:latin typeface="Times New Roman"/>
              </a:rPr>
              <a:t>Διοικητική διάγνωσ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52600" y="1523880"/>
            <a:ext cx="14144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Times New Roman"/>
              </a:rPr>
              <a:t>Φάση 5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00"/>
                </a:solidFill>
                <a:latin typeface="Times New Roman"/>
              </a:rPr>
              <a:t>Εκπαιδευτική διάγνωσ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73480" y="1523880"/>
            <a:ext cx="141444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Times New Roman"/>
              </a:rPr>
              <a:t>Φάση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00"/>
                </a:solidFill>
                <a:latin typeface="Times New Roman"/>
              </a:rPr>
              <a:t>Συμπεριφορική διάγνωσ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38960" y="1523880"/>
            <a:ext cx="18288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00"/>
                </a:solidFill>
                <a:latin typeface="Times New Roman"/>
              </a:rPr>
              <a:t>Φάση 2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00"/>
                </a:solidFill>
                <a:latin typeface="Times New Roman"/>
              </a:rPr>
              <a:t>Επιδημιολογική κα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ffff00"/>
                </a:solidFill>
                <a:latin typeface="Times New Roman"/>
              </a:rPr>
              <a:t>κοινωνική διάγνωσ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615840" y="5143680"/>
            <a:ext cx="645480" cy="675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45000" y="4800600"/>
            <a:ext cx="644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00"/>
                </a:solidFill>
                <a:latin typeface="Times New Roman"/>
              </a:rPr>
              <a:t>Αλληλεπίδραση Αγωγής-Υγεία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1880" y="1905120"/>
            <a:ext cx="74059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Η Υγεία είναι θεμελιώδης προϋπόθεση γι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την επιτυχή έκβαση της διαπαιδαγώγιση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niadeck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191120"/>
            <a:ext cx="800100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buClr>
                <a:srgbClr val="99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Η Αγωγή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είναι ένας ουσιαστικός παράγοντα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για τη διατήρηση και προαγωγή της υγεία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(Deme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600200"/>
            <a:ext cx="72392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99ff33"/>
                </a:solidFill>
                <a:latin typeface="Times New Roman"/>
              </a:rPr>
              <a:t>ΣΤΑ ΠΛΑΙΣΙΑ ΤΗΣ </a:t>
            </a:r>
            <a:r>
              <a:rPr b="0" lang="el-GR" sz="4400" spc="-1" strike="noStrike" u="sng">
                <a:solidFill>
                  <a:srgbClr val="99ff33"/>
                </a:solidFill>
                <a:uFillTx/>
                <a:latin typeface="Times New Roman"/>
              </a:rPr>
              <a:t>ΣΧΟΛΙΚΗΣ ΥΓΙΕΙΝΗ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Δεν γινόταν θεραπεία ούτε δίνονταν   συμβουλές για πρόληψη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Times New Roman"/>
              </a:rPr>
              <a:t>Διάγνωση των ασθενειών απ’ τις οποίες έπασχαν οι μαθητέ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ffff00"/>
                </a:solidFill>
                <a:uFillTx/>
                <a:latin typeface="Times New Roman"/>
              </a:rPr>
              <a:t>ΒΑΣΙΚΗ ΑΡΧ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05120"/>
            <a:ext cx="76201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99ff66"/>
                </a:solidFill>
                <a:latin typeface="Times New Roman"/>
              </a:rPr>
              <a:t>ΚΑΛΥΤΕΡΑ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ff0000"/>
                </a:solidFill>
                <a:uFillTx/>
                <a:latin typeface="Times New Roman"/>
              </a:rPr>
              <a:t>ΝΑ  ΠΡΟΛΑΜΒΑΝΕΙ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99ff66"/>
                </a:solidFill>
                <a:latin typeface="Times New Roman"/>
              </a:rPr>
              <a:t>ΠΑΡΑ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Times New Roman"/>
              </a:rPr>
              <a:t>ΝΑ  ΘΕΡΑΠΕΥΕΙ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6002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400" spc="-1" strike="noStrike" u="sng">
                <a:solidFill>
                  <a:srgbClr val="ffff00"/>
                </a:solidFill>
                <a:uFillTx/>
                <a:latin typeface="Times New Roman"/>
              </a:rPr>
              <a:t>Συνήθειες-συμπεριφορές</a:t>
            </a:r>
            <a:br>
              <a:rPr sz="5400"/>
            </a:br>
            <a:r>
              <a:rPr b="0" lang="el-GR" sz="5400" spc="-1" strike="noStrike">
                <a:solidFill>
                  <a:srgbClr val="ffff00"/>
                </a:solidFill>
                <a:latin typeface="Times New Roman"/>
              </a:rPr>
              <a:t>μαθητών  </a:t>
            </a:r>
            <a:br>
              <a:rPr sz="5400"/>
            </a:br>
            <a:r>
              <a:rPr b="0" lang="el-GR" sz="5400" spc="-1" strike="noStrike">
                <a:solidFill>
                  <a:srgbClr val="ffff00"/>
                </a:solidFill>
                <a:latin typeface="Times New Roman"/>
              </a:rPr>
              <a:t>σε σχέση με την υγεί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ff33"/>
                </a:solidFill>
                <a:latin typeface="Times New Roman"/>
              </a:rPr>
              <a:t>Το 11,5% των μαθητών της Δ’ Δημοτικού </a:t>
            </a:r>
            <a:br>
              <a:rPr sz="2400"/>
            </a:br>
            <a:r>
              <a:rPr b="0" lang="el-GR" sz="2400" spc="-1" strike="noStrike">
                <a:solidFill>
                  <a:srgbClr val="66ff33"/>
                </a:solidFill>
                <a:latin typeface="Times New Roman"/>
              </a:rPr>
              <a:t>έχουν εμπειρίες  καπνίσματο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kapnisma" descr="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12:56:24Z</dcterms:created>
  <dc:creator>Hatziharistos</dc:creator>
  <dc:description/>
  <dc:language>en-US</dc:language>
  <cp:lastModifiedBy>Hatziharistos</cp:lastModifiedBy>
  <dcterms:modified xsi:type="dcterms:W3CDTF">2000-05-09T19:46:09Z</dcterms:modified>
  <cp:revision>55</cp:revision>
  <dc:subject/>
  <dc:title>Αγωγή Υγείας </dc:title>
</cp:coreProperties>
</file>