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849-E2B0-481B-ACB6-A4B78211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9B4-D0C3-4740-BC04-37A1CDB4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C5A-FDF3-4EAA-9E4B-E24CB2A3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E31-2657-416D-9612-B1630288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37E-6130-4E72-8016-58DE849D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6CD-BFA8-4370-8B7C-601A6701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96A-BBD5-4FA8-8553-B21412D4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B9E-BE56-4D1F-91CF-2B8E5C1C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69C-14FE-4DD4-9B5A-041F90E4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8AF-3D64-40EE-987A-23844EBE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C76-B832-4732-8E9A-050C8CB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09E-1FA4-4F48-9E3A-A1A573A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412B-B55D-437E-9D62-C40102060678}" type="datetime3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29 Ιουλίου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400800"/>
            <a:ext cx="3657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Διαφάνεια: </a:t>
            </a:r>
            <a:fld id="{52A41E5D-FBF2-4750-9ECD-BF049516E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εριεχόμενο Φυσικής Αγωγή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ontent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130-DDFA-468E-8308-82F4A8A990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9EAEE-B837-4307-8B07-68472979B3C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1280" y="3657600"/>
            <a:ext cx="1833840" cy="2610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486400" y="457200"/>
            <a:ext cx="3200400" cy="1447920"/>
          </a:xfrm>
          <a:prstGeom prst="wedgeRoundRectCallout">
            <a:avLst>
              <a:gd name="adj1" fmla="val -88638"/>
              <a:gd name="adj2" fmla="val 58444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Δεξιότη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χωρίς μετατόπισ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04920"/>
            <a:ext cx="3353040" cy="1066680"/>
          </a:xfrm>
          <a:prstGeom prst="wedgeRoundRectCallout">
            <a:avLst>
              <a:gd name="adj1" fmla="val -8050"/>
              <a:gd name="adj2" fmla="val 100597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Δεξιότη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με μετατόπισ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828800"/>
            <a:ext cx="3962520" cy="2133720"/>
          </a:xfrm>
          <a:prstGeom prst="cloudCallout">
            <a:avLst>
              <a:gd name="adj1" fmla="val -41425"/>
              <a:gd name="adj2" fmla="val 4910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Ποιες είνα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οι βασικές κινητικέ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δεξιότητες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4191120"/>
            <a:ext cx="2133720" cy="1295280"/>
          </a:xfrm>
          <a:prstGeom prst="wedgeRoundRectCallout">
            <a:avLst>
              <a:gd name="adj1" fmla="val -160268"/>
              <a:gd name="adj2" fmla="val -83087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Δεξιότη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χειρισμ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762-E7A6-4625-B380-79CDCD94339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41646-821D-46B2-9280-41DE3E2DCF3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04800" y="1859040"/>
            <a:ext cx="44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Δεξιότητες με μετατόπισ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57200"/>
            <a:ext cx="3543120" cy="1523880"/>
          </a:xfrm>
          <a:prstGeom prst="downArrowCallout">
            <a:avLst>
              <a:gd name="adj1" fmla="val 58132"/>
              <a:gd name="adj2" fmla="val 58127"/>
              <a:gd name="adj3" fmla="val 16667"/>
              <a:gd name="adj4" fmla="val 6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9840" y="533520"/>
            <a:ext cx="3784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66ff33"/>
                </a:solidFill>
                <a:latin typeface="Times New Roman"/>
              </a:rPr>
              <a:t>Βασικές κινητικές δεξιότητε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563920"/>
            <a:ext cx="8382240" cy="3531960"/>
          </a:xfrm>
          <a:custGeom>
            <a:avLst/>
            <a:gdLst>
              <a:gd name="textAreaLeft" fmla="*/ 1913400 w 8382240"/>
              <a:gd name="textAreaRight" fmla="*/ 6468840 w 8382240"/>
              <a:gd name="textAreaTop" fmla="*/ 806040 h 3531960"/>
              <a:gd name="textAreaBottom" fmla="*/ 2725920 h 35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8386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99ff33"/>
                </a:solidFill>
                <a:latin typeface="Times New Roman"/>
              </a:rPr>
              <a:t>Περπάτημ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99ff33"/>
                </a:solidFill>
                <a:latin typeface="Times New Roman"/>
              </a:rPr>
              <a:t>Τρέξιμ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99ff33"/>
                </a:solidFill>
                <a:latin typeface="Times New Roman"/>
              </a:rPr>
              <a:t>Άλμ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0A6-8571-4D1D-A5C2-BC4D2E8EF7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04126-DB44-4DF6-AE55-0A47685FF32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33480" y="3200400"/>
            <a:ext cx="5246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66ff33"/>
                </a:solidFill>
                <a:latin typeface="Times New Roman"/>
              </a:rPr>
              <a:t>Ισορροπί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66ff33"/>
                </a:solidFill>
                <a:latin typeface="Times New Roman"/>
              </a:rPr>
              <a:t>Μεταφορά βάρου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62720" y="204156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Δεξιότητες χωρίς μετατόπισ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29080" y="685800"/>
            <a:ext cx="3655800" cy="1393920"/>
          </a:xfrm>
          <a:prstGeom prst="downArrowCallout">
            <a:avLst>
              <a:gd name="adj1" fmla="val 65573"/>
              <a:gd name="adj2" fmla="val 65567"/>
              <a:gd name="adj3" fmla="val 16667"/>
              <a:gd name="adj4" fmla="val 6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71840" y="723960"/>
            <a:ext cx="377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66ff33"/>
                </a:solidFill>
                <a:latin typeface="Times New Roman"/>
              </a:rPr>
              <a:t>Βασικές κινητικές δεξιότητε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200400"/>
            <a:ext cx="7696440" cy="2819520"/>
          </a:xfrm>
          <a:custGeom>
            <a:avLst/>
            <a:gdLst>
              <a:gd name="textAreaLeft" fmla="*/ 1756800 w 7696440"/>
              <a:gd name="textAreaRight" fmla="*/ 5939640 w 76964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872-11EF-41B5-923E-6AC28194D46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F773E-839F-4789-BFDC-733E247B9D0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27560" y="205740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Δεξιότητες χειρισμο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24280" y="533520"/>
            <a:ext cx="3552840" cy="1523880"/>
          </a:xfrm>
          <a:prstGeom prst="downArrowCallout">
            <a:avLst>
              <a:gd name="adj1" fmla="val 58291"/>
              <a:gd name="adj2" fmla="val 58286"/>
              <a:gd name="adj3" fmla="val 16667"/>
              <a:gd name="adj4" fmla="val 6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438280"/>
            <a:ext cx="7599240" cy="3733920"/>
          </a:xfrm>
          <a:custGeom>
            <a:avLst/>
            <a:gdLst>
              <a:gd name="textAreaLeft" fmla="*/ 1734840 w 7599240"/>
              <a:gd name="textAreaRight" fmla="*/ 5864400 w 7599240"/>
              <a:gd name="textAreaTop" fmla="*/ 852480 h 3733920"/>
              <a:gd name="textAreaBottom" fmla="*/ 288144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3429000"/>
            <a:ext cx="4333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99ff33"/>
                </a:solidFill>
                <a:latin typeface="Times New Roman"/>
              </a:rPr>
              <a:t>Ρίψη, Υποδοχ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99ff33"/>
                </a:solidFill>
                <a:latin typeface="Times New Roman"/>
              </a:rPr>
              <a:t>Λάκτισμα, Σταμάτημ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99ff33"/>
                </a:solidFill>
                <a:latin typeface="Times New Roman"/>
              </a:rPr>
              <a:t>Κρούσ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635040"/>
            <a:ext cx="3784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66ff33"/>
                </a:solidFill>
                <a:latin typeface="Times New Roman"/>
              </a:rPr>
              <a:t>Βασικές κινητικές δεξιότητε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D04-1864-4D6D-B9F9-ADA81F8F564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C985D-2396-4AAD-AE8E-ACB3D261D9E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1833840" cy="260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257800" y="457200"/>
            <a:ext cx="3352680" cy="987480"/>
          </a:xfrm>
          <a:prstGeom prst="wedgeRoundRectCallout">
            <a:avLst>
              <a:gd name="adj1" fmla="val -84611"/>
              <a:gd name="adj2" fmla="val 116722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Times New Roman"/>
              </a:rPr>
              <a:t>Αντίληψη χώρ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(που κινείται το σώμ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04920"/>
            <a:ext cx="3353040" cy="914400"/>
          </a:xfrm>
          <a:prstGeom prst="wedgeRoundRectCallout">
            <a:avLst>
              <a:gd name="adj1" fmla="val 29212"/>
              <a:gd name="adj2" fmla="val 166319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Times New Roman"/>
              </a:rPr>
              <a:t>Γνώση σώματ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(τι κάνει το σώμ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2401920"/>
            <a:ext cx="3352680" cy="1332000"/>
          </a:xfrm>
          <a:prstGeom prst="wedgeRoundRectCallout">
            <a:avLst>
              <a:gd name="adj1" fmla="val -87546"/>
              <a:gd name="adj2" fmla="val -7689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Times New Roman"/>
              </a:rPr>
              <a:t>Προσπάθει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(πως κινείται το σώμ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600200"/>
            <a:ext cx="3733920" cy="2651040"/>
          </a:xfrm>
          <a:prstGeom prst="cloudCallout">
            <a:avLst>
              <a:gd name="adj1" fmla="val -37925"/>
              <a:gd name="adj2" fmla="val 4006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Ποιες είναι ο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κινητικές έννοιες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4572000"/>
            <a:ext cx="3352680" cy="1371600"/>
          </a:xfrm>
          <a:prstGeom prst="wedgeRoundRectCallout">
            <a:avLst>
              <a:gd name="adj1" fmla="val -100805"/>
              <a:gd name="adj2" fmla="val -108564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Times New Roman"/>
              </a:rPr>
              <a:t>Σχέσει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(με ποιον, με τ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κινείται το σώμ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AB6-5A8B-442C-8C1E-D177AE56348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3C203-0262-43CB-ADD5-FDB2241EFF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1833480" cy="2610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15000" y="609480"/>
            <a:ext cx="2895480" cy="1295640"/>
          </a:xfrm>
          <a:prstGeom prst="wedgeRoundRectCallout">
            <a:avLst>
              <a:gd name="adj1" fmla="val -101041"/>
              <a:gd name="adj2" fmla="val 75120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Γνωρίζω τ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χήματα το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ώματ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04920"/>
            <a:ext cx="3353040" cy="1218960"/>
          </a:xfrm>
          <a:prstGeom prst="wedgeRoundRectCallout">
            <a:avLst>
              <a:gd name="adj1" fmla="val 26657"/>
              <a:gd name="adj2" fmla="val 84763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Γνωρίζω τ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μέρη του σώματ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600200"/>
            <a:ext cx="3352680" cy="2651040"/>
          </a:xfrm>
          <a:prstGeom prst="cloudCallout">
            <a:avLst>
              <a:gd name="adj1" fmla="val -39490"/>
              <a:gd name="adj2" fmla="val 41675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99ff33"/>
                </a:solidFill>
                <a:latin typeface="Times New Roman"/>
              </a:rPr>
              <a:t>Τι σημαίνε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99ff33"/>
                </a:solidFill>
                <a:latin typeface="Times New Roman"/>
              </a:rPr>
              <a:t>γνώση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99ff33"/>
                </a:solidFill>
                <a:latin typeface="Times New Roman"/>
              </a:rPr>
              <a:t>σώματος 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886200"/>
            <a:ext cx="2819520" cy="1371600"/>
          </a:xfrm>
          <a:prstGeom prst="wedgeRoundRectCallout">
            <a:avLst>
              <a:gd name="adj1" fmla="val -103601"/>
              <a:gd name="adj2" fmla="val -75115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Γνωρίζω τι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κινήσεις τ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ώματ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B64-FB7D-48E0-A2F0-530387D8AE4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6357A-766F-434A-B9B0-A0E8DF0C6D6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66520" y="83772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99ff33"/>
                </a:solidFill>
                <a:latin typeface="Times New Roman"/>
              </a:rPr>
              <a:t>Γνώση σώματο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95720" y="2362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Μέρη σώματ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01800" y="39625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Κεφάλ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κορμός, χέρια, πόδια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άλλα μέρ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3429000"/>
            <a:ext cx="6172200" cy="2787480"/>
          </a:xfrm>
          <a:custGeom>
            <a:avLst/>
            <a:gdLst>
              <a:gd name="textAreaLeft" fmla="*/ 1409040 w 6172200"/>
              <a:gd name="textAreaRight" fmla="*/ 4763160 w 6172200"/>
              <a:gd name="textAreaTop" fmla="*/ 636120 h 2787480"/>
              <a:gd name="textAreaBottom" fmla="*/ 2151360 h 27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46280" y="716040"/>
            <a:ext cx="4270320" cy="1460520"/>
          </a:xfrm>
          <a:prstGeom prst="downArrowCallout">
            <a:avLst>
              <a:gd name="adj1" fmla="val 73103"/>
              <a:gd name="adj2" fmla="val 73096"/>
              <a:gd name="adj3" fmla="val 16667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694-351D-4964-A4AF-0E614E00D2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F42C3-176D-4225-8651-51DA03F577A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440" y="2286000"/>
            <a:ext cx="17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Times New Roman"/>
              </a:rPr>
              <a:t>Σχήματ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46280" y="716040"/>
            <a:ext cx="4270320" cy="1460520"/>
          </a:xfrm>
          <a:prstGeom prst="downArrowCallout">
            <a:avLst>
              <a:gd name="adj1" fmla="val 73103"/>
              <a:gd name="adj2" fmla="val 73096"/>
              <a:gd name="adj3" fmla="val 16667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5880" y="1004760"/>
            <a:ext cx="4191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66ff33"/>
                </a:solidFill>
                <a:latin typeface="Times New Roman"/>
              </a:rPr>
              <a:t>Γνώση σώματο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7880" y="3048120"/>
            <a:ext cx="8008920" cy="3168360"/>
          </a:xfrm>
          <a:custGeom>
            <a:avLst/>
            <a:gdLst>
              <a:gd name="textAreaLeft" fmla="*/ 1828080 w 8008920"/>
              <a:gd name="textAreaRight" fmla="*/ 6180840 w 8008920"/>
              <a:gd name="textAreaTop" fmla="*/ 723240 h 3168360"/>
              <a:gd name="textAreaBottom" fmla="*/ 24451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75720" y="3673440"/>
            <a:ext cx="441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Ίσιο-Στρογγυλ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Πλατύ-Στενό-Σπειροειδέ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Γωνιώδες-Συμμετρικ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Μη συμμετρικ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513-FE81-4C58-826B-87DF8F56AEA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94BA1-0F66-4D1A-BB72-E69C7529B6A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87680" y="609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66ff33"/>
                </a:solidFill>
                <a:latin typeface="Times New Roman"/>
              </a:rPr>
              <a:t>Γνώση σώματο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440" y="2286000"/>
            <a:ext cx="17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Times New Roman"/>
              </a:rPr>
              <a:t>Κινήσει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46280" y="716040"/>
            <a:ext cx="4270320" cy="1460520"/>
          </a:xfrm>
          <a:prstGeom prst="downArrowCallout">
            <a:avLst>
              <a:gd name="adj1" fmla="val 73103"/>
              <a:gd name="adj2" fmla="val 73096"/>
              <a:gd name="adj3" fmla="val 16667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" y="3048120"/>
            <a:ext cx="8008920" cy="3168360"/>
          </a:xfrm>
          <a:custGeom>
            <a:avLst/>
            <a:gdLst>
              <a:gd name="textAreaLeft" fmla="*/ 1828080 w 8008920"/>
              <a:gd name="textAreaRight" fmla="*/ 6180840 w 8008920"/>
              <a:gd name="textAreaTop" fmla="*/ 723240 h 3168360"/>
              <a:gd name="textAreaBottom" fmla="*/ 24451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50400" y="3673440"/>
            <a:ext cx="386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Αιώρηση-Ταλάντευσ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Κάμψη-Διάτασ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τροφή-Συστροφ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Ανύψωση-Κατέβασμ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778-FF4D-4A45-9229-2BD59ECCBA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C64E9-6BFF-402E-84ED-A7686515A92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2895480"/>
            <a:ext cx="4799160" cy="129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99ff33"/>
                </a:solidFill>
                <a:latin typeface="Times New Roman"/>
              </a:rPr>
              <a:t>Αντίληψη χώρου</a:t>
            </a:r>
            <a:br>
              <a:rPr sz="4000"/>
            </a:b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(που κινείται το σώμ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8480" y="442800"/>
            <a:ext cx="2288520" cy="146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99ff33"/>
                </a:solidFill>
                <a:uFillTx/>
                <a:latin typeface="Times New Roman"/>
              </a:rPr>
              <a:t>Κατευθύν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Μπροστ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Πίσω-Πλάγ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Πάνω-Κάτ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7680" y="442800"/>
            <a:ext cx="2292840" cy="15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99ff33"/>
                </a:solidFill>
                <a:uFillTx/>
                <a:latin typeface="Times New Roman"/>
              </a:rPr>
              <a:t>Διαδρομ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Ζικ-ζα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Ίσια-Καμπυλωτ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ff33"/>
                </a:solidFill>
                <a:latin typeface="Times New Roman"/>
              </a:rPr>
              <a:t>Σπειροειδ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4925880"/>
            <a:ext cx="2417760" cy="129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99ff33"/>
                </a:solidFill>
                <a:uFillTx/>
                <a:latin typeface="Times New Roman"/>
              </a:rPr>
              <a:t>Επίπεδ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Χαμηλ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Μεσαίο-Ψηλ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3400" y="4876920"/>
            <a:ext cx="3251520" cy="143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99ff33"/>
                </a:solidFill>
                <a:uFillTx/>
                <a:latin typeface="Times New Roman"/>
              </a:rPr>
              <a:t>Εκτάσει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Κοντά στο σώμ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Μακριά από το σώμ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198108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1911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98108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191120"/>
            <a:ext cx="0" cy="712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CF6-8382-41CD-BE70-47AE52B4F12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35D3B-777D-4A81-9E2B-6A0BF782909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Τι πρέπει να πάρουμε  υπόψη μας για την  επιλογή του περιεχομένου της Φυσικής Αγωγής 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9440" y="2568600"/>
            <a:ext cx="7848000" cy="155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τη σημερινή εποχή η υγεία και η ευεξία το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νθρώπου απειλείται κυρίως από εκφυλιστικέ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ιτίες, που οφείλονται στον τρόπο ζωή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7280" y="4651200"/>
            <a:ext cx="767880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Παλαιότερα η υγεία απειλούνταν κυρίω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πό μολυσματικές ασθένειε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363-B5FE-474F-985E-4B896D49D6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B0CE2-60C3-4EA9-9EA2-777A6A401AF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27160" y="3730680"/>
            <a:ext cx="2149560" cy="14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66ff33"/>
                </a:solidFill>
                <a:uFillTx/>
                <a:latin typeface="Times New Roman"/>
              </a:rPr>
              <a:t>Ταχύτητ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33"/>
                </a:solidFill>
                <a:latin typeface="Times New Roman"/>
              </a:rPr>
              <a:t>Γρήγορ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33"/>
                </a:solidFill>
                <a:latin typeface="Times New Roman"/>
              </a:rPr>
              <a:t>Αργ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33"/>
                </a:solidFill>
                <a:latin typeface="Times New Roman"/>
              </a:rPr>
              <a:t>Επιτάχυν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33"/>
                </a:solidFill>
                <a:latin typeface="Times New Roman"/>
              </a:rPr>
              <a:t>Επιβράδυν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3733920"/>
            <a:ext cx="1447560" cy="145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66ff33"/>
                </a:solidFill>
                <a:uFillTx/>
                <a:latin typeface="Times New Roman"/>
              </a:rPr>
              <a:t>Δύναμ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33"/>
                </a:solidFill>
                <a:latin typeface="Times New Roman"/>
              </a:rPr>
              <a:t>Απαλ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33"/>
                </a:solidFill>
                <a:latin typeface="Times New Roman"/>
              </a:rPr>
              <a:t>Έντον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43520" y="3733920"/>
            <a:ext cx="1442880" cy="145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66ff33"/>
                </a:solidFill>
                <a:uFillTx/>
                <a:latin typeface="Times New Roman"/>
              </a:rPr>
              <a:t>Ρο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33"/>
                </a:solidFill>
                <a:latin typeface="Times New Roman"/>
              </a:rPr>
              <a:t>Με διακοπ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66ff33"/>
                </a:solidFill>
                <a:latin typeface="Times New Roman"/>
              </a:rPr>
              <a:t>Συνεχόμεν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762120"/>
            <a:ext cx="586764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Προσπάθεια</a:t>
            </a:r>
            <a:br>
              <a:rPr sz="4000"/>
            </a:b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(πως κινείται το σώμ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14600" y="2057040"/>
            <a:ext cx="0" cy="16765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086600" y="2057040"/>
            <a:ext cx="0" cy="16765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24280" y="2057040"/>
            <a:ext cx="0" cy="16765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726-4ED0-40A3-BF2F-25FA8A43812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A7FD6-D6AF-4905-B4B1-C487C80D15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84280" y="3319560"/>
            <a:ext cx="2978640" cy="214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Με άτομα και ομάδ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Επάνω-Κάτ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Ξεχωριστά-Μαζ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Πίσω απ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Μπροστά απ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Κατά μήκ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Αντικριστ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Κοντά-μακρι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2040" y="3360600"/>
            <a:ext cx="2198520" cy="210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Με όργαν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Πάνω από-Κάτω απ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Παραπλεύρως-Επάν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Κοντά-Μακρι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Πίσω απ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Μπροστά απ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Ανέβασμα-Έξοδ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15360" y="3360600"/>
            <a:ext cx="1986840" cy="210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Άλλες σχέ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Ρυθμο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Ήχο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Μουσικ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Κρουστ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Ποιήμα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Ιστορί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219320"/>
            <a:ext cx="6629400" cy="1218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Σχέσεις</a:t>
            </a:r>
            <a:br>
              <a:rPr sz="6000"/>
            </a:b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(Με ποιον, με τι κινείται το σώμα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243828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43828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648320" y="243828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6EC-6A7C-4D8A-AD0E-495DFE01A24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AFE34-ED24-438E-A141-5BD25E60A46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1833480" cy="2610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4120" y="914400"/>
            <a:ext cx="3352680" cy="1219320"/>
          </a:xfrm>
          <a:prstGeom prst="wedgeRoundRectCallout">
            <a:avLst>
              <a:gd name="adj1" fmla="val -75898"/>
              <a:gd name="adj2" fmla="val 45444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Αναπαραγωγ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ρυθμ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04920"/>
            <a:ext cx="3353040" cy="685800"/>
          </a:xfrm>
          <a:prstGeom prst="wedgeRoundRectCallout">
            <a:avLst>
              <a:gd name="adj1" fmla="val 26657"/>
              <a:gd name="adj2" fmla="val 189583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Ρυθμική ακρίβει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800600"/>
            <a:ext cx="3733920" cy="533520"/>
          </a:xfrm>
          <a:prstGeom prst="wedgeRoundRectCallout">
            <a:avLst>
              <a:gd name="adj1" fmla="val -75851"/>
              <a:gd name="adj2" fmla="val -286013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em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057400"/>
            <a:ext cx="4572000" cy="1752480"/>
          </a:xfrm>
          <a:prstGeom prst="cloudCallout">
            <a:avLst>
              <a:gd name="adj1" fmla="val -20625"/>
              <a:gd name="adj2" fmla="val 70472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Μουσικοκινητικ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δραστηριότητε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&amp; χορό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1DC-C19C-43B4-A57B-28868180135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5FB20-F098-4EB6-A49B-79FA8F2DBD7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rohos" descr=""/>
          <p:cNvPicPr/>
          <p:nvPr/>
        </p:nvPicPr>
        <p:blipFill>
          <a:blip r:embed="rId1"/>
          <a:stretch/>
        </p:blipFill>
        <p:spPr>
          <a:xfrm>
            <a:off x="1295280" y="0"/>
            <a:ext cx="666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Στάδια μάθησης προσαρμοσμένα στις φάσεις ανάπτυξης του παιδιού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(Buschner 1994, p.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2120" y="11430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Στάδιο 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516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Στάδιο Ι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2920" y="1143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Στάδιο ΙΙ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69960" y="1477800"/>
            <a:ext cx="8321040" cy="4894200"/>
            <a:chOff x="669960" y="1477800"/>
            <a:chExt cx="8321040" cy="4894200"/>
          </a:xfrm>
        </p:grpSpPr>
        <p:grpSp>
          <p:nvGrpSpPr>
            <p:cNvPr id="159" name=""/>
            <p:cNvGrpSpPr/>
            <p:nvPr/>
          </p:nvGrpSpPr>
          <p:grpSpPr>
            <a:xfrm>
              <a:off x="669960" y="1477800"/>
              <a:ext cx="2112840" cy="4262760"/>
              <a:chOff x="669960" y="1477800"/>
              <a:chExt cx="2112840" cy="4262760"/>
            </a:xfrm>
          </p:grpSpPr>
          <p:sp>
            <p:nvSpPr>
              <p:cNvPr id="160" name=""/>
              <p:cNvSpPr/>
              <p:nvPr/>
            </p:nvSpPr>
            <p:spPr>
              <a:xfrm>
                <a:off x="669960" y="1477800"/>
                <a:ext cx="150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Μαθηματικά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0680" y="1782720"/>
                <a:ext cx="90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800" spc="-1" strike="noStrike">
                    <a:solidFill>
                      <a:srgbClr val="ffff00"/>
                    </a:solidFill>
                    <a:latin typeface="Times New Roman"/>
                  </a:rPr>
                  <a:t>Αριθμοί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9960" y="3321000"/>
                <a:ext cx="108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Γλώσσ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1400" y="3633840"/>
                <a:ext cx="109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800" spc="-1" strike="noStrike">
                    <a:solidFill>
                      <a:srgbClr val="ffff00"/>
                    </a:solidFill>
                    <a:latin typeface="Times New Roman"/>
                  </a:rPr>
                  <a:t>Αλφάβητ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9960" y="460224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Φυσική Αγωγ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2840" y="4906800"/>
                <a:ext cx="2109960" cy="83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800" spc="-1" strike="noStrike">
                    <a:solidFill>
                      <a:srgbClr val="ffff00"/>
                    </a:solidFill>
                    <a:latin typeface="Times New Roman"/>
                  </a:rPr>
                  <a:t>Κινητικό αλφάβητ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Κινητικές έννοιε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Κινητικές δεξιότητε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305520" y="1782720"/>
              <a:ext cx="2865240" cy="3957840"/>
              <a:chOff x="3305520" y="1782720"/>
              <a:chExt cx="2865240" cy="3957840"/>
            </a:xfrm>
          </p:grpSpPr>
          <p:sp>
            <p:nvSpPr>
              <p:cNvPr id="167" name=""/>
              <p:cNvSpPr/>
              <p:nvPr/>
            </p:nvSpPr>
            <p:spPr>
              <a:xfrm>
                <a:off x="3305520" y="1782720"/>
                <a:ext cx="202032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800" spc="-1" strike="noStrike">
                    <a:solidFill>
                      <a:srgbClr val="ffff00"/>
                    </a:solidFill>
                    <a:latin typeface="Times New Roman"/>
                  </a:rPr>
                  <a:t>Αριθμητικές πράξει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Πρόσθεσ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Αφαίρεσ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Πολλαπλασιασμό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Διαίρεσ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06240" y="3633840"/>
                <a:ext cx="286452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800" spc="-1" strike="noStrike">
                    <a:solidFill>
                      <a:srgbClr val="ffff00"/>
                    </a:solidFill>
                    <a:latin typeface="Times New Roman"/>
                  </a:rPr>
                  <a:t>Προτάσεις/παράγραφο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Υποκείμενο,ουσιαστικ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Ρήμα, επίρρημ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Αντικείμενο, κατηγορούμεν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06240" y="4906800"/>
                <a:ext cx="2209320" cy="83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800" spc="-1" strike="noStrike">
                    <a:solidFill>
                      <a:srgbClr val="ffff00"/>
                    </a:solidFill>
                    <a:latin typeface="Times New Roman"/>
                  </a:rPr>
                  <a:t>Διδακτικά αντικείμεν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Γυμναστική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Παιγνίδια, Ρυθμό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621840" y="1782720"/>
              <a:ext cx="2369160" cy="4589280"/>
              <a:chOff x="6621840" y="1782720"/>
              <a:chExt cx="2369160" cy="4589280"/>
            </a:xfrm>
          </p:grpSpPr>
          <p:sp>
            <p:nvSpPr>
              <p:cNvPr id="171" name=""/>
              <p:cNvSpPr/>
              <p:nvPr/>
            </p:nvSpPr>
            <p:spPr>
              <a:xfrm>
                <a:off x="6623280" y="1782720"/>
                <a:ext cx="157068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800" spc="-1" strike="noStrike">
                    <a:solidFill>
                      <a:srgbClr val="ffff00"/>
                    </a:solidFill>
                    <a:latin typeface="Times New Roman"/>
                  </a:rPr>
                  <a:t>Κλάδο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Τριγωνομετρί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Γεωμετρί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Πιθανότητε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Λογισμό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22200" y="3633480"/>
                <a:ext cx="1250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800" spc="-1" strike="noStrike">
                    <a:solidFill>
                      <a:srgbClr val="ffff00"/>
                    </a:solidFill>
                    <a:latin typeface="Times New Roman"/>
                  </a:rPr>
                  <a:t>Εκθέσει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Λογοτεχνί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Ποίησ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21840" y="4906440"/>
                <a:ext cx="2369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800" spc="-1" strike="noStrike">
                    <a:solidFill>
                      <a:srgbClr val="ffff00"/>
                    </a:solidFill>
                    <a:latin typeface="Times New Roman"/>
                  </a:rPr>
                  <a:t>Κινητική δραστηριότητ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Αθλήματ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Αθλοπαιδιέ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Χορό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ffff00"/>
                    </a:solidFill>
                    <a:latin typeface="Times New Roman"/>
                  </a:rPr>
                  <a:t>Εξειδικευμένη άσκησ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905120" y="5173560"/>
              <a:ext cx="4647960" cy="1023840"/>
              <a:chOff x="1905120" y="5173560"/>
              <a:chExt cx="4647960" cy="1023840"/>
            </a:xfrm>
          </p:grpSpPr>
          <p:sp>
            <p:nvSpPr>
              <p:cNvPr id="175" name=""/>
              <p:cNvSpPr/>
              <p:nvPr/>
            </p:nvSpPr>
            <p:spPr>
              <a:xfrm>
                <a:off x="1905120" y="5816520"/>
                <a:ext cx="4647960" cy="380880"/>
              </a:xfrm>
              <a:custGeom>
                <a:avLst/>
                <a:gdLst/>
                <a:ahLst/>
                <a:rect l="l" t="t" r="r" b="b"/>
                <a:pathLst>
                  <a:path w="2928" h="240">
                    <a:moveTo>
                      <a:pt x="0" y="0"/>
                    </a:moveTo>
                    <a:lnTo>
                      <a:pt x="672" y="240"/>
                    </a:lnTo>
                    <a:lnTo>
                      <a:pt x="2256" y="240"/>
                    </a:lnTo>
                    <a:lnTo>
                      <a:pt x="2928" y="0"/>
                    </a:ln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43200" y="5173560"/>
                <a:ext cx="533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64240" y="5186160"/>
                <a:ext cx="838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762120" y="1066680"/>
            <a:ext cx="8001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6397560"/>
            <a:ext cx="719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541-95A6-41F4-BA46-823905169A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861CE-5304-4A85-AF1D-93BEA5FE85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πίδραση των ασκήσεων ρυθμού στη μάθηση αθλητικών δεξιοτήτων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(Ζαχοπούλου και συν.,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58880" y="2001960"/>
          <a:ext cx="7645320" cy="40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2001960"/>
                    <a:ext cx="764532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E4C-E640-41A1-88D5-1C490D8A7A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5B770-4E38-4DF3-A10A-717E924B925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66ff33"/>
                </a:solidFill>
                <a:latin typeface="Times New Roman"/>
              </a:rPr>
              <a:t>Στις μικρότερες τάξεις θα </a:t>
            </a:r>
            <a:br>
              <a:rPr sz="4000"/>
            </a:br>
            <a:r>
              <a:rPr b="0" lang="el-GR" sz="4000" spc="-1" strike="noStrike">
                <a:solidFill>
                  <a:srgbClr val="66ff33"/>
                </a:solidFill>
                <a:latin typeface="Times New Roman"/>
              </a:rPr>
              <a:t>πρέπει να επιδιώκουμε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752480"/>
            <a:ext cx="69343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133720"/>
            <a:ext cx="8534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 γνώση του σώ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ν ανάπτυξη της αίσθησης του χώρου και του χρόν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ν ανάπτυξη του συντονισμού (ακουστικού- κινητικού, οπτικού - κινητικού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 βελτίωση της στατικής και δυναμικής ισορροπ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ν πλευρική κίν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ν καλλιέργεια του ρυθμο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ν ανάπτυξη των βασικών κινητικών δεξιοτήτ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ν ανάπτυξη φυσικής κατάστα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508040" cy="150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5D2-0667-4FA7-A11E-E6D0D63A687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D54D9-7DF4-48D5-B623-CBD47552E1B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66ff33"/>
                </a:solidFill>
                <a:latin typeface="Times New Roman"/>
              </a:rPr>
              <a:t>Στις μεγαλύτερες τάξεις θα </a:t>
            </a:r>
            <a:br>
              <a:rPr sz="4000"/>
            </a:br>
            <a:r>
              <a:rPr b="0" lang="el-GR" sz="4000" spc="-1" strike="noStrike">
                <a:solidFill>
                  <a:srgbClr val="66ff33"/>
                </a:solidFill>
                <a:latin typeface="Times New Roman"/>
              </a:rPr>
              <a:t>πρέπει να επιδιώκουμε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1508400" cy="1508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14400" y="2057400"/>
            <a:ext cx="5943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7432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ν ανάπτυξη της γενικής φυσικής κατάστα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ν ανάπτυξη αθλητικών δεξιοτήτ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 μύηση στη βασική τεχνική των αθλημάτ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ην τελειοποίηση των στοιχείων που αναπτύχθηκαν στις προηγούμενες τάξει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91A-677B-4C1F-8AD2-C3131FBB912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EC6A1-E9E5-48E1-9361-CBD1E2DC4D8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9840" y="-360"/>
            <a:ext cx="8997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Έννοιες, και αντικείμενα μάθησης για την αντίληψη του χώρου (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opple 1995, p.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55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2280" y="330120"/>
            <a:ext cx="8915400" cy="5814720"/>
            <a:chOff x="152280" y="330120"/>
            <a:chExt cx="8915400" cy="5814720"/>
          </a:xfrm>
        </p:grpSpPr>
        <p:sp>
          <p:nvSpPr>
            <p:cNvPr id="193" name=""/>
            <p:cNvSpPr/>
            <p:nvPr/>
          </p:nvSpPr>
          <p:spPr>
            <a:xfrm>
              <a:off x="2274840" y="5578200"/>
              <a:ext cx="67928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Όταν τα μέλη του σώματός σου είναι κοντά στο σώμα σου (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Όταν τα μέλη του σώματός σου είναι μακρά από το σώμα σου (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280" y="5511600"/>
              <a:ext cx="212256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Έκταση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Κοντ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Μακριά</a:t>
              </a:r>
              <a:r>
                <a:rPr b="0" lang="el-GR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74840" y="4178160"/>
              <a:ext cx="6792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Κάτω από τα γόνατά σου (Ν,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Ανάμεσα στους ώμους και στα γόνατά σου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Πάνω από τους ώμους σου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280" y="4216320"/>
              <a:ext cx="2122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Επίπεδα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Χαμηλό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Μεσαίο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Ψηλ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74840" y="3038400"/>
              <a:ext cx="679284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Το μπροστινό σου μέρος προηγείται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Το πίσω μέρος προηγείται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Η πλευρά σου προηγείται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Προς τον ουρανό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Προς το έδαφος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280" y="2974680"/>
              <a:ext cx="212256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Κατευθύνσει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Προς τα μπρο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Προς τα πίσ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Προς τα πλάγι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Προς τα πάν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Προς τα κάτ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4840" y="1631880"/>
              <a:ext cx="6792840" cy="13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Άδειος ή ανοιχτός χώρος γύρω σου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Μείνε μεταξύ μπάλας και αντιπάλου (3-4, 5-6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Βρες χώρο κινούμενος σε ανοιχτές περιοχές για να πασάρεις ή να πιάσεις τη μπάλα (5-6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Κτύπα τη μπάλα εκεί όπου δεν υπάρχουν αντίπαλοι (5-6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Να αποκλείσεις το χώρο, μπαίνοντας ανάμεσα στον αντίπαλο και το στόχο (5-6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Να είσαι έτοιμος να κινηθείς (5-6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Οι συμπαίκτες σου εξίσου καλύπτουν την περιοχή (5-6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80" y="1657080"/>
              <a:ext cx="212256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Γενικός χώρο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Επίθεσ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Άμυν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4840" y="1390320"/>
              <a:ext cx="6792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Πήγαινε δεξιά σου, ώστε να μην ακουμπάς κάποιον ή κάτι 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280" y="1352520"/>
              <a:ext cx="21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Προσωπικός χώρο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280" y="911160"/>
              <a:ext cx="8915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Αντίληψη χώρο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74840" y="1163520"/>
              <a:ext cx="679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00"/>
                  </a:solidFill>
                  <a:latin typeface="Times New Roman"/>
                </a:rPr>
                <a:t>Αντικείμενα μάθηση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280" y="1163520"/>
              <a:ext cx="21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00"/>
                  </a:solidFill>
                  <a:latin typeface="Times New Roman"/>
                </a:rPr>
                <a:t>Έννοιες και δεξιότητε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80" y="330120"/>
              <a:ext cx="89154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Σκοπός: </a:t>
              </a:r>
              <a:r>
                <a:rPr b="0" i="1" lang="el-GR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Στο τέλος του δημοτικού τα παιδιά πρέπει να μπορούν</a:t>
              </a:r>
              <a:r>
                <a:rPr b="0" lang="el-GR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να σχεδιάζουν, να τελειοποιούν και να εκτελούν γυμναστικές ή χορευτικές σειρές με εναλλαγές κατευθύνσεων, επιπέδων, διαδρομών και έκτασης του χώρου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2280" y="330120"/>
              <a:ext cx="8915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2280" y="330120"/>
              <a:ext cx="0" cy="5794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280" y="885600"/>
              <a:ext cx="8915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4840" y="4833720"/>
              <a:ext cx="6792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Στρογγυλό σαν το ουράνιο τόξο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Σαν χάρακας ή μολύβι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Ίσιες γραμμές που συνδέονται και δημιουργούν γωνίες (Ν, 1-2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80" y="4821120"/>
              <a:ext cx="212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Διαδρομέ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Καμπυλωτ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Ίσια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</a:rPr>
                <a:t>Ζικ ζα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5473440"/>
              <a:ext cx="8915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067680" y="330120"/>
              <a:ext cx="0" cy="5794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280" y="6134040"/>
              <a:ext cx="8915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280" y="1137960"/>
              <a:ext cx="8915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280" y="1390320"/>
              <a:ext cx="8915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2280" y="1631880"/>
              <a:ext cx="8915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2280" y="3000240"/>
              <a:ext cx="8915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74840" y="1214280"/>
              <a:ext cx="0" cy="4930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2280" y="4152600"/>
              <a:ext cx="8915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280" y="4800240"/>
              <a:ext cx="8915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862-ADBB-47C2-A324-6CBEE9AA8D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24388-C70C-41FE-84A8-1F77C45519D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840" y="-360"/>
            <a:ext cx="8997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Έννοιες, και αντικείμενα μάθησης των δεξιοτήτων με μετατόπιση (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opple 1995, p.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79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355680"/>
          <a:ext cx="7696080" cy="5830920"/>
        </p:xfrm>
        <a:graphic>
          <a:graphicData uri="http://schemas.openxmlformats.org/drawingml/2006/table">
            <a:tbl>
              <a:tblPr/>
              <a:tblGrid>
                <a:gridCol w="2122560"/>
                <a:gridCol w="5573520"/>
              </a:tblGrid>
              <a:tr h="684720">
                <a:tc gridSpan="2"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κοπός: </a:t>
                      </a:r>
                      <a:r>
                        <a:rPr b="0" i="1" lang="el-GR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Στο τέλος του δημοτικού τα παιδιά πρέπει να μπορούν</a:t>
                      </a:r>
                      <a:r>
                        <a:rPr b="0" lang="el-GR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ε μικρές ομάδες και με διαφορετικούς σχηματισμούς να πραγματοποιούν σειρές, που θα περιλαμβάνουν μια ή περισσότερες δεξιότητες μετατόπισης, με συνοδεία μουσική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760">
                <a:tc gridSpan="2"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εξιότητες με μετατόπισ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16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Έννοιες και δεξιότητε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Αντικείμενα μάθηση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ερπάτημ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ι φτέρνες ακουμπούν πρώτες στο έδαφος (Ν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α χέρια κινούνται αντίθετα από τα πόδια (Ν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ρέξιμ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ο μπροστινό μέρος του πέλματος αγγίζει πρώτα το έδαφος (Ν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α χεριά κινούνται αντίθετα από τα πόδια (Ν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Άλμα με 2 πόδι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ύγισε τα γόνατα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πρώξε, προσγειώσου στο μπροστινό μέρος του πέλματος (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Χρησιμοποίησε και τα δύο πόδια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Άλμα κουτσ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ύγισε τα γόνατα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ναπήδησε, προσγειώσου στο μπροστινό μέρος του πέλματος (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Χρησιμοποίησε μόνο ένα πόδι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καλό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άχτυλα ποδιού – σε φτέρνα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ο ένα πόδι πάντα ακολουθεί το άλλο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λίστρημ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υντάσσομαι μαζί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ο ένα πόδι σπρώχνει το άλλο στο πλάι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ipping (</a:t>
                      </a: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Βήμα – άλμ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Βήμα άλμα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α χέρια κινούνται αντίθετα από τα πόδια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89928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Άλμα με διασκελισμ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ύγισε τα γόνατα και ώθησε όσο πιο δυνατά μπορείς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Βγάλε το ένα πόδι μπροστά (Ν, 1-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ροσγειώσου στο μπροστινό μέρος του πέλματος (3-4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έντωσε τα πόδια σε απόσταση μεταξύ τους (5-6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D9E-ECC7-4915-8B4B-7EEA0349EFD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C6CE4-CE13-4697-9F4E-A4D1F5D62F0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ύγχρονος τρόπος ζωή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odern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6705720" cy="327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</a:rPr>
              <a:t>Μειωμένη κινητική δραστηριότητ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ff33"/>
                </a:solidFill>
                <a:latin typeface="Times New Roman"/>
              </a:rPr>
              <a:t>Κακή διατροφή (αυξημένα λιπαρά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F1A-7825-4BF9-825C-2378046D77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48D13-6BEE-4C41-9A15-A72F88F298C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66ff33"/>
                </a:solidFill>
                <a:latin typeface="Times New Roman"/>
              </a:rPr>
              <a:t>1 στα 3 ελληνόπουλα είναι παχύσαρκο, το μεγαλύτερο </a:t>
            </a:r>
            <a:br>
              <a:rPr sz="4000"/>
            </a:br>
            <a:r>
              <a:rPr b="0" lang="el-GR" sz="4000" spc="-1" strike="noStrike">
                <a:solidFill>
                  <a:srgbClr val="66ff33"/>
                </a:solidFill>
                <a:latin typeface="Times New Roman"/>
              </a:rPr>
              <a:t>ποσοστό στην Ευρώπη 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(Ραλλίδης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be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429000" cy="278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29B-EB67-414E-908A-04D4344354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CEAF6-623B-44AB-B1AB-393E0E40BBD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66ff33"/>
                </a:solidFill>
                <a:latin typeface="Times New Roman"/>
              </a:rPr>
              <a:t>Αύξηση της χοληστερόλης στο αίμα των παιδιών: στη δεκαετία ΄70 ήταν 160 mg/dl σήμερα είναι 170 mg/dl </a:t>
            </a:r>
            <a:r>
              <a:rPr b="0" lang="el-GR" sz="2000" spc="-1" strike="noStrike">
                <a:solidFill>
                  <a:srgbClr val="66ff33"/>
                </a:solidFill>
                <a:latin typeface="Times New Roman"/>
              </a:rPr>
              <a:t>(Ραλλίδης 1999)</a:t>
            </a:r>
            <a:r>
              <a:rPr b="0" lang="el-GR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7960" y="2590920"/>
            <a:ext cx="1962360" cy="2514600"/>
            <a:chOff x="687960" y="2590920"/>
            <a:chExt cx="1962360" cy="2514600"/>
          </a:xfrm>
        </p:grpSpPr>
        <p:sp>
          <p:nvSpPr>
            <p:cNvPr id="54" name=""/>
            <p:cNvSpPr/>
            <p:nvPr/>
          </p:nvSpPr>
          <p:spPr>
            <a:xfrm>
              <a:off x="687960" y="2590920"/>
              <a:ext cx="19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00"/>
                  </a:solidFill>
                  <a:latin typeface="Times New Roman"/>
                </a:rPr>
                <a:t>Υγιής αρτηρί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artiria11" descr=""/>
            <p:cNvPicPr/>
            <p:nvPr/>
          </p:nvPicPr>
          <p:blipFill>
            <a:blip r:embed="rId1"/>
            <a:stretch/>
          </p:blipFill>
          <p:spPr>
            <a:xfrm>
              <a:off x="990720" y="3429000"/>
              <a:ext cx="147636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5487480" y="2666880"/>
            <a:ext cx="2401200" cy="2667240"/>
            <a:chOff x="5487480" y="2666880"/>
            <a:chExt cx="2401200" cy="2667240"/>
          </a:xfrm>
        </p:grpSpPr>
        <p:sp>
          <p:nvSpPr>
            <p:cNvPr id="57" name=""/>
            <p:cNvSpPr/>
            <p:nvPr/>
          </p:nvSpPr>
          <p:spPr>
            <a:xfrm>
              <a:off x="5487480" y="26668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00"/>
                  </a:solidFill>
                  <a:latin typeface="Times New Roman"/>
                </a:rPr>
                <a:t>Μη υγιής αρτηρί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artiria1" descr=""/>
            <p:cNvPicPr/>
            <p:nvPr/>
          </p:nvPicPr>
          <p:blipFill>
            <a:blip r:embed="rId2"/>
            <a:stretch/>
          </p:blipFill>
          <p:spPr>
            <a:xfrm>
              <a:off x="5791320" y="3657600"/>
              <a:ext cx="201924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026-78F6-4B13-A480-901BEA85F3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E92D1-AF72-4CC9-87F0-1D0D094B98B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66ff33"/>
                </a:solidFill>
                <a:latin typeface="Times New Roman"/>
              </a:rPr>
              <a:t>Το 11,5% των μαθητών της Δ’ Δημοτικού έχουν εμπειρίες  καπνίσματο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kapnisma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B2B-27BF-4DA4-899E-43D12E58EA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631D1-A481-4ADB-ADE9-D6C10F61F5C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Έκκληση του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IEPS, </a:t>
            </a: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της Ακαδημίας Παιδιατρικής, Κολεγίου </a:t>
            </a:r>
            <a:br>
              <a:rPr sz="2400"/>
            </a:b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Αθλητιατρικής,   Οργάνωσης “Υγεία 2000”  και  Ένωσης Καρδιολογίας των ΗΠΑ, </a:t>
            </a:r>
            <a:br>
              <a:rPr sz="2400"/>
            </a:b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για τη φυσική κατάσταση των παιδιών και των νέ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Να αυξηθούν οι δραστηριότητες Φυσικής Αγωγής που σχετίζονται με τη φυσική κατάστασ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Να δοθεί έμφαση στις “δια βίου” κινητικές δραστηριότητε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Να μειωθεί ο χρόνος διδασκαλίας των αθλητικών δεξιοτήτ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Οι δραστηριότητες φυσικής κατάστασης να προάγουν κυρίως τη “δια βίου” αερόβια  άσκησ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Τα προγράμματα πρέπει να δίνουν έμφαση στην αγωγή και στην αλλαγή συμπεριφορά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Η αξιολόγηση της φυσικής κατάστασης να αποτελεί σημαντικό μέρος των προγραμμάτ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EC5-93D9-4661-803B-4EA58517CC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AC957-4434-42D4-99BF-A2FFC16E02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304920"/>
            <a:ext cx="3352680" cy="685800"/>
          </a:xfrm>
          <a:prstGeom prst="wedgeRoundRectCallout">
            <a:avLst>
              <a:gd name="adj1" fmla="val 5398"/>
              <a:gd name="adj2" fmla="val 156481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Γυμναστικ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533520"/>
            <a:ext cx="3353040" cy="609480"/>
          </a:xfrm>
          <a:prstGeom prst="wedgeRoundRectCallout">
            <a:avLst>
              <a:gd name="adj1" fmla="val -94935"/>
              <a:gd name="adj2" fmla="val 180208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Παιχνίδι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1828800"/>
            <a:ext cx="3505320" cy="1371600"/>
          </a:xfrm>
          <a:prstGeom prst="wedgeRoundRectCallout">
            <a:avLst>
              <a:gd name="adj1" fmla="val -91532"/>
              <a:gd name="adj2" fmla="val 12731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Μουσικοκινητικ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δραστηριότητε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&amp; χορό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733920"/>
            <a:ext cx="3353040" cy="606240"/>
          </a:xfrm>
          <a:prstGeom prst="wedgeRoundRectCallout">
            <a:avLst>
              <a:gd name="adj1" fmla="val -89347"/>
              <a:gd name="adj2" fmla="val -176439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θλήματ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5334120"/>
            <a:ext cx="3353040" cy="606240"/>
          </a:xfrm>
          <a:prstGeom prst="wedgeRoundRectCallout">
            <a:avLst>
              <a:gd name="adj1" fmla="val -105351"/>
              <a:gd name="adj2" fmla="val -376439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γωγή υγε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iriakos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128592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1447920"/>
            <a:ext cx="3276360" cy="1752480"/>
          </a:xfrm>
          <a:prstGeom prst="cloudCallout">
            <a:avLst>
              <a:gd name="adj1" fmla="val -25291"/>
              <a:gd name="adj2" fmla="val 4375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Ποιο είναι τ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το περιεχόμενο τ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Φυσικής Αγωγή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EF5-C4D5-46E2-BE13-F3CA547E919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17903-8B3E-49C6-A33D-1D4B7D1C578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04920"/>
            <a:ext cx="3352680" cy="914400"/>
          </a:xfrm>
          <a:prstGeom prst="wedgeRoundRectCallout">
            <a:avLst>
              <a:gd name="adj1" fmla="val 2226"/>
              <a:gd name="adj2" fmla="val 121703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Βασικές κινητικ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δεξιότητε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304920"/>
            <a:ext cx="3353040" cy="609480"/>
          </a:xfrm>
          <a:prstGeom prst="wedgeRoundRectCallout">
            <a:avLst>
              <a:gd name="adj1" fmla="val -107055"/>
              <a:gd name="adj2" fmla="val 219791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Κινητικές έννοιε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859120"/>
            <a:ext cx="3353040" cy="685800"/>
          </a:xfrm>
          <a:prstGeom prst="wedgeRoundRectCallout">
            <a:avLst>
              <a:gd name="adj1" fmla="val -97208"/>
              <a:gd name="adj2" fmla="val -97222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υσική κατάστα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19720"/>
            <a:ext cx="3353040" cy="606240"/>
          </a:xfrm>
          <a:prstGeom prst="wedgeRoundRectCallout">
            <a:avLst>
              <a:gd name="adj1" fmla="val -104356"/>
              <a:gd name="adj2" fmla="val -321726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θλητικές δεξιότητε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486400"/>
            <a:ext cx="3429000" cy="838080"/>
          </a:xfrm>
          <a:prstGeom prst="wedgeRoundRectCallout">
            <a:avLst>
              <a:gd name="adj1" fmla="val -58101"/>
              <a:gd name="adj2" fmla="val -344129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Θετική στά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πέναντι στην άσκ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kiriakos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1285920" cy="3352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410080" y="1581120"/>
            <a:ext cx="3353040" cy="609480"/>
          </a:xfrm>
          <a:prstGeom prst="wedgeRoundRectCallout">
            <a:avLst>
              <a:gd name="adj1" fmla="val -98342"/>
              <a:gd name="adj2" fmla="val 44791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Ρυθμ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905120"/>
            <a:ext cx="3581280" cy="1143000"/>
          </a:xfrm>
          <a:prstGeom prst="cloudCallout">
            <a:avLst>
              <a:gd name="adj1" fmla="val -16930"/>
              <a:gd name="adj2" fmla="val 61111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Τι επιδιώκουμε ν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9ff33"/>
                </a:solidFill>
                <a:latin typeface="Times New Roman"/>
              </a:rPr>
              <a:t>αναπτύξουμε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Κ. Ζουνχιά - Περιεχόμενο Φυσικής Αγωγής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60A-B7B0-4130-9605-9135DF29731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0F3CE-A95A-4D93-9257-AA23297A71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9T13:44:18Z</dcterms:created>
  <dc:creator>Hatziharistos</dc:creator>
  <dc:description/>
  <dc:language>en-US</dc:language>
  <cp:lastModifiedBy>hatzixaristos</cp:lastModifiedBy>
  <dcterms:modified xsi:type="dcterms:W3CDTF">2002-10-31T19:30:18Z</dcterms:modified>
  <cp:revision>154</cp:revision>
  <dc:subject/>
  <dc:title>No Slide Title</dc:title>
</cp:coreProperties>
</file>